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064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0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101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101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646C-50F5-4939-B220-B9858243A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1048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8A03-0A32-4F6E-B08B-DDF04C1E47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give the historical setting for the 1888 message (1874; 1877; 187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1048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8F1B-D0C7-4368-AAE5-4B5DBFB56B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why (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 centuries) the Church fathers proclaimed, “what Christ did not assume He could not redee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1048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3058-A549-4AE7-BEE7-C02384CD83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o this He had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ame fallen nature of mankind that needed redeeming (explain assu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1048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DFB7-5CE5-418E-BD58-34FDD9340A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that we will have holy flesh after probation closes is a heres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1048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3DCC-ACFF-4650-AC4D-F91A7AED17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sue in the time of trouble is not behavior but FAITH—Luke 18:8; Rev. 6:12-17; 7:1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1048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7D24-15EE-4B0E-B86F-6AFB6D6F8A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1888 message can prepare a people for the great tribulation (the final showdown in the great controversy between Christ and  Satan). Note Revelation 7:9, 13 in context, which answers the question of Rev. 6: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1048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C948-7915-48D9-8888-65D5A4777F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1048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FCAC-8496-4EBA-997C-1E1981A2D6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we are sinners by nature, even though our behavior may be perfect. All are under sin—Romans 3:9, 10a &amp; 12b (sour oranges &amp; the tre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1048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E789-A9C5-4317-8B64-A52818358B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are sinners by nature we have no solution to the death problem, the grim reaper (removing the oranges does not solve the probl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1048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2C61-11B5-4D5D-ABB0-A69FF0C162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why even babies need a Savior. If you have not sinned for the last 2 hrs. you are still a s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1048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6355-AC64-4EDD-87A8-83FE07A5A8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ny fail to realize is that dealing with sins (behavior) does not solve the SIN problem (This is the problem with the independent ministr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1048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BF1C-71A0-419C-A489-EA8FD27748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“wretched” appears only twice in the NT, in Rom. 7:24 and Rev. 3:17. This is Laodicia’s subconscious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1048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F57E-5625-4F4F-86D5-40D4DE77E3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04880"/>
            <a:ext cx="548640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Hinduism. Judaism, Budhaism, psudo-Christianity etc. all are concerned about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185A-25F1-4D7D-80D4-356A0EAF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B6F8-B2B9-45B8-954B-90FE13E4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517D-00E3-4F33-9D8C-76A06318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D4FB-54A4-4C5C-AD04-4ABE9DC7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0915-FCBB-48B4-9303-28473C7E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10E7-528B-46B5-ABCC-077ED7CC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94F8-3DF1-4CD6-BD42-CCD51570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5D71-60D5-436D-831D-F45001CD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CF8B-6CC4-47DB-8C9E-B8523F55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38A1-5741-40FC-B393-41595371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3BC4-08D8-423C-A16C-6196AF07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F4901-D769-42CC-BFA2-1B082101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BCB2-AB72-449C-B097-FFBBDC62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C69F-6EC1-4E85-AD7B-69B5699B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C6FC-6BC8-48FE-9C5D-AFA2C0C2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E4E5-B646-4243-8DCA-320BBFBA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A510-14C0-43DB-8857-0F305E21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948BD-174B-40CF-8C12-E9A1AA55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D774-D43B-4B55-B3BD-F9094A5C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E4FD-63AD-4538-9C45-4DE73F6E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7E69-A119-4E6E-9841-F249E48D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0129-BF59-4F85-BE83-E881ADA8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79A3-7F84-413B-A2E6-8F231EA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9A21D-FFD3-4DF9-801B-493CFF29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c0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50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7c0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7c0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9E89-0E74-426A-83B2-6B71DCC7E9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c0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50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7c0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7c0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9B1E-0CCA-4AC6-865D-69581BE2F10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ffffcc"/>
                </a:solidFill>
                <a:latin typeface="Arial"/>
              </a:rPr>
              <a:t>Христос нашата праведност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476424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Божието разрешение на универсалния проблем грях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4"/>
          <p:cNvSpPr/>
          <p:nvPr/>
        </p:nvSpPr>
        <p:spPr>
          <a:xfrm>
            <a:off x="1295280" y="152280"/>
            <a:ext cx="6477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Но само Бог има разрешение на проблема на човечеството с грешното естество.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1828800" y="2590920"/>
            <a:ext cx="5334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Това разрешение е истината такава, каквато е в Христос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00"/>
                </a:solidFill>
                <a:latin typeface="Shruti"/>
              </a:rPr>
              <a:t>Йоан 1:29.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228600" y="49528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Исус дойде да спаси човечеството първо от този проблем -  грях.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990720" y="1523880"/>
            <a:ext cx="7238160" cy="3809880"/>
            <a:chOff x="990720" y="1523880"/>
            <a:chExt cx="7238160" cy="3809880"/>
          </a:xfrm>
        </p:grpSpPr>
        <p:grpSp>
          <p:nvGrpSpPr>
            <p:cNvPr id="264" name="Group 22"/>
            <p:cNvGrpSpPr/>
            <p:nvPr/>
          </p:nvGrpSpPr>
          <p:grpSpPr>
            <a:xfrm>
              <a:off x="990720" y="1523880"/>
              <a:ext cx="990360" cy="3772080"/>
              <a:chOff x="990720" y="1523880"/>
              <a:chExt cx="990360" cy="3772080"/>
            </a:xfrm>
          </p:grpSpPr>
          <p:sp>
            <p:nvSpPr>
              <p:cNvPr id="265" name="AutoShape 23"/>
              <p:cNvSpPr/>
              <p:nvPr/>
            </p:nvSpPr>
            <p:spPr>
              <a:xfrm>
                <a:off x="1523880" y="3467160"/>
                <a:ext cx="228600" cy="1828800"/>
              </a:xfrm>
              <a:prstGeom prst="flowChartMerg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66" name="AutoShape 24"/>
              <p:cNvSpPr/>
              <p:nvPr/>
            </p:nvSpPr>
            <p:spPr>
              <a:xfrm>
                <a:off x="1143000" y="3467160"/>
                <a:ext cx="304920" cy="1828800"/>
              </a:xfrm>
              <a:prstGeom prst="flowChartMerg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67" name="Oval 25"/>
              <p:cNvSpPr/>
              <p:nvPr/>
            </p:nvSpPr>
            <p:spPr>
              <a:xfrm>
                <a:off x="1066680" y="2019240"/>
                <a:ext cx="838440" cy="190512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68" name="Oval 26"/>
              <p:cNvSpPr/>
              <p:nvPr/>
            </p:nvSpPr>
            <p:spPr>
              <a:xfrm>
                <a:off x="1295280" y="1523880"/>
                <a:ext cx="381240" cy="53352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69" name="Text Box 27"/>
              <p:cNvSpPr/>
              <p:nvPr/>
            </p:nvSpPr>
            <p:spPr>
              <a:xfrm>
                <a:off x="990720" y="2476440"/>
                <a:ext cx="99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800000"/>
                    </a:solidFill>
                    <a:latin typeface="Tahoma"/>
                  </a:rPr>
                  <a:t> </a:t>
                </a:r>
                <a:r>
                  <a:rPr b="1" lang="bg-BG" sz="4400" spc="-1" strike="noStrike">
                    <a:solidFill>
                      <a:srgbClr val="800000"/>
                    </a:solidFill>
                    <a:latin typeface="Tahoma"/>
                  </a:rPr>
                  <a:t>Н</a:t>
                </a:r>
                <a:endParaRPr b="0" lang="en-US" sz="44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</p:grpSp>
        <p:grpSp>
          <p:nvGrpSpPr>
            <p:cNvPr id="270" name="Group 28"/>
            <p:cNvGrpSpPr/>
            <p:nvPr/>
          </p:nvGrpSpPr>
          <p:grpSpPr>
            <a:xfrm>
              <a:off x="7162560" y="1600200"/>
              <a:ext cx="1066320" cy="3733560"/>
              <a:chOff x="7162560" y="1600200"/>
              <a:chExt cx="1066320" cy="3733560"/>
            </a:xfrm>
          </p:grpSpPr>
          <p:sp>
            <p:nvSpPr>
              <p:cNvPr id="271" name="Oval 29"/>
              <p:cNvSpPr/>
              <p:nvPr/>
            </p:nvSpPr>
            <p:spPr>
              <a:xfrm>
                <a:off x="7390800" y="1600200"/>
                <a:ext cx="380880" cy="533160"/>
              </a:xfrm>
              <a:prstGeom prst="ellips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72" name="AutoShape 30"/>
              <p:cNvSpPr/>
              <p:nvPr/>
            </p:nvSpPr>
            <p:spPr>
              <a:xfrm>
                <a:off x="7238520" y="3504960"/>
                <a:ext cx="304560" cy="1828800"/>
              </a:xfrm>
              <a:prstGeom prst="flowChartMerg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73" name="AutoShape 31"/>
              <p:cNvSpPr/>
              <p:nvPr/>
            </p:nvSpPr>
            <p:spPr>
              <a:xfrm>
                <a:off x="7619400" y="3467160"/>
                <a:ext cx="228240" cy="1828800"/>
              </a:xfrm>
              <a:prstGeom prst="flowChartMerg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74" name="Oval 32"/>
              <p:cNvSpPr/>
              <p:nvPr/>
            </p:nvSpPr>
            <p:spPr>
              <a:xfrm>
                <a:off x="7162560" y="2133360"/>
                <a:ext cx="838080" cy="1905120"/>
              </a:xfrm>
              <a:prstGeom prst="ellips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75" name="Text Box 33"/>
              <p:cNvSpPr/>
              <p:nvPr/>
            </p:nvSpPr>
            <p:spPr>
              <a:xfrm>
                <a:off x="7314840" y="2514600"/>
                <a:ext cx="914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44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1"/>
          <p:cNvGrpSpPr/>
          <p:nvPr/>
        </p:nvGrpSpPr>
        <p:grpSpPr>
          <a:xfrm>
            <a:off x="990720" y="1523880"/>
            <a:ext cx="7238160" cy="3809880"/>
            <a:chOff x="990720" y="1523880"/>
            <a:chExt cx="7238160" cy="3809880"/>
          </a:xfrm>
        </p:grpSpPr>
        <p:grpSp>
          <p:nvGrpSpPr>
            <p:cNvPr id="277" name="Group 22"/>
            <p:cNvGrpSpPr/>
            <p:nvPr/>
          </p:nvGrpSpPr>
          <p:grpSpPr>
            <a:xfrm>
              <a:off x="990720" y="1523880"/>
              <a:ext cx="990360" cy="3772080"/>
              <a:chOff x="990720" y="1523880"/>
              <a:chExt cx="990360" cy="3772080"/>
            </a:xfrm>
          </p:grpSpPr>
          <p:sp>
            <p:nvSpPr>
              <p:cNvPr id="278" name="AutoShape 23"/>
              <p:cNvSpPr/>
              <p:nvPr/>
            </p:nvSpPr>
            <p:spPr>
              <a:xfrm>
                <a:off x="1523880" y="3467160"/>
                <a:ext cx="228600" cy="1828800"/>
              </a:xfrm>
              <a:prstGeom prst="flowChartMerg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79" name="AutoShape 24"/>
              <p:cNvSpPr/>
              <p:nvPr/>
            </p:nvSpPr>
            <p:spPr>
              <a:xfrm>
                <a:off x="1143000" y="3467160"/>
                <a:ext cx="304920" cy="1828800"/>
              </a:xfrm>
              <a:prstGeom prst="flowChartMerg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80" name="Oval 25"/>
              <p:cNvSpPr/>
              <p:nvPr/>
            </p:nvSpPr>
            <p:spPr>
              <a:xfrm>
                <a:off x="1066680" y="2019240"/>
                <a:ext cx="838440" cy="190512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81" name="Oval 26"/>
              <p:cNvSpPr/>
              <p:nvPr/>
            </p:nvSpPr>
            <p:spPr>
              <a:xfrm>
                <a:off x="1295280" y="1523880"/>
                <a:ext cx="381240" cy="53352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82" name="Text Box 27"/>
              <p:cNvSpPr/>
              <p:nvPr/>
            </p:nvSpPr>
            <p:spPr>
              <a:xfrm>
                <a:off x="990720" y="2476440"/>
                <a:ext cx="99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800000"/>
                    </a:solidFill>
                    <a:latin typeface="Tahoma"/>
                  </a:rPr>
                  <a:t> </a:t>
                </a:r>
                <a:r>
                  <a:rPr b="1" lang="bg-BG" sz="4400" spc="-1" strike="noStrike">
                    <a:solidFill>
                      <a:srgbClr val="800000"/>
                    </a:solidFill>
                    <a:latin typeface="Tahoma"/>
                  </a:rPr>
                  <a:t>Н</a:t>
                </a:r>
                <a:endParaRPr b="0" lang="en-US" sz="44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</p:grpSp>
        <p:grpSp>
          <p:nvGrpSpPr>
            <p:cNvPr id="283" name="Group 28"/>
            <p:cNvGrpSpPr/>
            <p:nvPr/>
          </p:nvGrpSpPr>
          <p:grpSpPr>
            <a:xfrm>
              <a:off x="7162560" y="1600200"/>
              <a:ext cx="1066320" cy="3733560"/>
              <a:chOff x="7162560" y="1600200"/>
              <a:chExt cx="1066320" cy="3733560"/>
            </a:xfrm>
          </p:grpSpPr>
          <p:sp>
            <p:nvSpPr>
              <p:cNvPr id="284" name="Oval 29"/>
              <p:cNvSpPr/>
              <p:nvPr/>
            </p:nvSpPr>
            <p:spPr>
              <a:xfrm>
                <a:off x="7390800" y="1600200"/>
                <a:ext cx="380880" cy="533160"/>
              </a:xfrm>
              <a:prstGeom prst="ellips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85" name="AutoShape 30"/>
              <p:cNvSpPr/>
              <p:nvPr/>
            </p:nvSpPr>
            <p:spPr>
              <a:xfrm>
                <a:off x="7238520" y="3504960"/>
                <a:ext cx="304560" cy="1828800"/>
              </a:xfrm>
              <a:prstGeom prst="flowChartMerg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86" name="AutoShape 31"/>
              <p:cNvSpPr/>
              <p:nvPr/>
            </p:nvSpPr>
            <p:spPr>
              <a:xfrm>
                <a:off x="7619400" y="3467160"/>
                <a:ext cx="228240" cy="1828800"/>
              </a:xfrm>
              <a:prstGeom prst="flowChartMerg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87" name="Oval 32"/>
              <p:cNvSpPr/>
              <p:nvPr/>
            </p:nvSpPr>
            <p:spPr>
              <a:xfrm>
                <a:off x="7162560" y="2133360"/>
                <a:ext cx="838080" cy="1905120"/>
              </a:xfrm>
              <a:prstGeom prst="ellips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88" name="Text Box 33"/>
              <p:cNvSpPr/>
              <p:nvPr/>
            </p:nvSpPr>
            <p:spPr>
              <a:xfrm>
                <a:off x="7314840" y="2514600"/>
                <a:ext cx="914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44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</p:grpSp>
      </p:grpSp>
      <p:sp>
        <p:nvSpPr>
          <p:cNvPr id="289" name="Text Box 20"/>
          <p:cNvSpPr/>
          <p:nvPr/>
        </p:nvSpPr>
        <p:spPr>
          <a:xfrm>
            <a:off x="1219320" y="4114800"/>
            <a:ext cx="65530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ози начин беше Христос да стане един от на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Римляни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8:2,3;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Евреи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:14-18.</a:t>
            </a:r>
            <a:endParaRPr b="0" lang="en-US" sz="3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0" y="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Има само един начин Христос да се справи с </a:t>
            </a:r>
            <a:r>
              <a:rPr b="0" lang="bg-BG" sz="4000" spc="-1" strike="noStrike">
                <a:solidFill>
                  <a:srgbClr val="ffff00"/>
                </a:solidFill>
                <a:latin typeface="Shruti"/>
              </a:rPr>
              <a:t>естеството на греха 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(закон или сила)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                 </a:t>
            </a: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</p:txBody>
      </p:sp>
      <p:grpSp>
        <p:nvGrpSpPr>
          <p:cNvPr id="291" name="Group 35"/>
          <p:cNvGrpSpPr/>
          <p:nvPr/>
        </p:nvGrpSpPr>
        <p:grpSpPr>
          <a:xfrm>
            <a:off x="1752480" y="2438280"/>
            <a:ext cx="2590920" cy="916920"/>
            <a:chOff x="1752480" y="2438280"/>
            <a:chExt cx="2590920" cy="916920"/>
          </a:xfrm>
        </p:grpSpPr>
        <p:sp>
          <p:nvSpPr>
            <p:cNvPr id="292" name="Line 15"/>
            <p:cNvSpPr/>
            <p:nvPr/>
          </p:nvSpPr>
          <p:spPr>
            <a:xfrm flipH="1">
              <a:off x="1752480" y="2819520"/>
              <a:ext cx="1524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293" name="Text Box 17"/>
            <p:cNvSpPr/>
            <p:nvPr/>
          </p:nvSpPr>
          <p:spPr>
            <a:xfrm>
              <a:off x="1905120" y="243828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Н е изпълнен със себеправедност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 Фил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. 3:6 b</a:t>
              </a: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</p:grpSp>
      <p:grpSp>
        <p:nvGrpSpPr>
          <p:cNvPr id="294" name="Group 34"/>
          <p:cNvGrpSpPr/>
          <p:nvPr/>
        </p:nvGrpSpPr>
        <p:grpSpPr>
          <a:xfrm>
            <a:off x="5638680" y="2438280"/>
            <a:ext cx="1981440" cy="916920"/>
            <a:chOff x="5638680" y="2438280"/>
            <a:chExt cx="1981440" cy="916920"/>
          </a:xfrm>
        </p:grpSpPr>
        <p:sp>
          <p:nvSpPr>
            <p:cNvPr id="295" name="Line 16"/>
            <p:cNvSpPr/>
            <p:nvPr/>
          </p:nvSpPr>
          <p:spPr>
            <a:xfrm>
              <a:off x="5638680" y="281952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296" name="Text Box 18"/>
            <p:cNvSpPr/>
            <p:nvPr/>
          </p:nvSpPr>
          <p:spPr>
            <a:xfrm>
              <a:off x="5715000" y="2438280"/>
              <a:ext cx="190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 </a:t>
              </a: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е пълен с престъпления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T</a:t>
              </a:r>
              <a:r>
                <a:rPr b="1" lang="bg-BG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ит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 3:3</a:t>
              </a: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0" y="368280"/>
            <a:ext cx="9144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04920" y="2209680"/>
            <a:ext cx="91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600" spc="-1" strike="noStrike">
                <a:solidFill>
                  <a:srgbClr val="ffffff"/>
                </a:solidFill>
                <a:latin typeface="Shruti"/>
              </a:rPr>
              <a:t>Победи смъртта и гроба </a:t>
            </a:r>
            <a:r>
              <a:rPr b="0" lang="bg-BG" sz="3600" spc="-1" strike="noStrike">
                <a:solidFill>
                  <a:srgbClr val="ffff00"/>
                </a:solidFill>
                <a:latin typeface="Shruti"/>
              </a:rPr>
              <a:t>Римл. 8: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80880" y="2743200"/>
            <a:ext cx="86108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600" spc="-1" strike="noStrike">
                <a:solidFill>
                  <a:srgbClr val="ffffff"/>
                </a:solidFill>
                <a:latin typeface="Shruti"/>
              </a:rPr>
              <a:t>Обективно спаси цялото човечество.</a:t>
            </a: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Shruti"/>
              </a:rPr>
              <a:t>Римляни 5:18; Тит 2:11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Shrut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80880" y="3962520"/>
            <a:ext cx="8458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152280" y="495288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bg-BG" sz="3600" spc="-1" strike="noStrike">
                <a:solidFill>
                  <a:srgbClr val="ffffff"/>
                </a:solidFill>
                <a:latin typeface="Shruti"/>
              </a:rPr>
              <a:t>Направи възможна блажената надеждаза възкресението </a:t>
            </a:r>
            <a:r>
              <a:rPr b="0" lang="bg-BG" sz="3600" spc="-1" strike="noStrike">
                <a:solidFill>
                  <a:srgbClr val="ffff00"/>
                </a:solidFill>
                <a:latin typeface="Shruti"/>
              </a:rPr>
              <a:t>1 Коринтяни 15:12-57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152280" y="3886200"/>
            <a:ext cx="814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hruti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Shruti"/>
              </a:rPr>
              <a:t>3.</a:t>
            </a:r>
            <a:r>
              <a:rPr b="0" lang="en-US" sz="3600" spc="-1" strike="noStrike">
                <a:solidFill>
                  <a:srgbClr val="ffffff"/>
                </a:solidFill>
                <a:latin typeface="Shruti"/>
              </a:rPr>
              <a:t> </a:t>
            </a:r>
            <a:r>
              <a:rPr b="0" lang="bg-BG" sz="3600" spc="-1" strike="noStrike">
                <a:solidFill>
                  <a:srgbClr val="ffffff"/>
                </a:solidFill>
                <a:latin typeface="Shruti"/>
              </a:rPr>
              <a:t>Даде на вярващите надежда да живеят праведен живот. </a:t>
            </a:r>
            <a:r>
              <a:rPr b="0" lang="bg-BG" sz="3600" spc="-1" strike="noStrike">
                <a:solidFill>
                  <a:srgbClr val="ffff00"/>
                </a:solidFill>
                <a:latin typeface="Shruti"/>
              </a:rPr>
              <a:t>Йоан 13:34,35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80880" y="272880"/>
            <a:ext cx="83822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Като осъди “закона на греха и на смъртта” в нашето корпоративно човешко естество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4000" spc="-1" strike="noStrike">
                <a:solidFill>
                  <a:srgbClr val="ffff00"/>
                </a:solidFill>
                <a:latin typeface="Arial"/>
              </a:rPr>
              <a:t>Христос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304920" y="304920"/>
            <a:ext cx="8381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Shruti"/>
              </a:rPr>
              <a:t>Проблемът грях (естество) в нас ще бъде отстранен субективно и ще бъдем направени праведни при Славното Пришествие на Христос и възкресението на праведните мъртви.</a:t>
            </a:r>
            <a:endParaRPr b="0" lang="en-US" sz="44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Shruti"/>
              </a:rPr>
              <a:t>Римляни 8:22-25; Филипяни 3:20,21.</a:t>
            </a:r>
            <a:endParaRPr b="0" lang="en-US" sz="44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533520" y="0"/>
            <a:ext cx="815328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Shruti"/>
              </a:rPr>
              <a:t>Дотогава</a:t>
            </a:r>
            <a:endParaRPr b="0" lang="en-US" sz="48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Shruti"/>
              </a:rPr>
              <a:t>нашата праведност</a:t>
            </a:r>
            <a:endParaRPr b="0" lang="en-US" sz="48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Shruti"/>
              </a:rPr>
              <a:t>в поведение, справедливост</a:t>
            </a:r>
            <a:endParaRPr b="0" lang="en-US" sz="48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Shruti"/>
              </a:rPr>
              <a:t> </a:t>
            </a:r>
            <a:r>
              <a:rPr b="0" lang="bg-BG" sz="4800" spc="-1" strike="noStrike">
                <a:solidFill>
                  <a:srgbClr val="ffffff"/>
                </a:solidFill>
                <a:latin typeface="Shruti"/>
              </a:rPr>
              <a:t>и естество, е единствено </a:t>
            </a:r>
            <a:endParaRPr b="0" lang="en-US" sz="48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Shruti"/>
              </a:rPr>
              <a:t>“</a:t>
            </a:r>
            <a:r>
              <a:rPr b="0" lang="bg-BG" sz="4800" spc="-1" strike="noStrike">
                <a:solidFill>
                  <a:srgbClr val="ffffff"/>
                </a:solidFill>
                <a:latin typeface="Shruti"/>
              </a:rPr>
              <a:t>в Христос”.</a:t>
            </a:r>
            <a:endParaRPr b="0" lang="en-US" sz="48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00"/>
                </a:solidFill>
                <a:latin typeface="Shruti"/>
              </a:rPr>
              <a:t>Римляни 5:18,19; 10:4.</a:t>
            </a:r>
            <a:endParaRPr b="0" lang="en-US" sz="48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380880" y="35568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457200" y="56386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380880" y="4952880"/>
            <a:ext cx="830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228600" y="2971800"/>
            <a:ext cx="861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380880" y="380880"/>
            <a:ext cx="8305920" cy="82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Shruti"/>
              </a:rPr>
              <a:t>Евангелието на царството, изпълнението на </a:t>
            </a:r>
            <a:r>
              <a:rPr b="0" lang="bg-BG" sz="4800" spc="-1" strike="noStrike">
                <a:solidFill>
                  <a:srgbClr val="ffff00"/>
                </a:solidFill>
                <a:latin typeface="Shruti"/>
              </a:rPr>
              <a:t>Матей 24:14</a:t>
            </a:r>
            <a:r>
              <a:rPr b="0" lang="bg-BG" sz="4800" spc="-1" strike="noStrike">
                <a:solidFill>
                  <a:srgbClr val="ffffff"/>
                </a:solidFill>
                <a:latin typeface="Shruti"/>
              </a:rPr>
              <a:t>, ще развие непоклатима вяра в християните за голямото преследване – Армагедон –</a:t>
            </a:r>
            <a:endParaRPr b="0" lang="en-US" sz="48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00"/>
                </a:solidFill>
                <a:latin typeface="Shruti"/>
              </a:rPr>
              <a:t>Откровение 6:12-15; Лука 18:8</a:t>
            </a:r>
            <a:endParaRPr b="0" lang="en-US" sz="48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771480" y="533520"/>
            <a:ext cx="77724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600" spc="-1" strike="noStrike">
                <a:solidFill>
                  <a:srgbClr val="ffffff"/>
                </a:solidFill>
                <a:latin typeface="Shruti"/>
              </a:rPr>
              <a:t>Нека този ден </a:t>
            </a:r>
            <a:endParaRPr b="0" lang="en-US" sz="96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600" spc="-1" strike="noStrike">
                <a:solidFill>
                  <a:srgbClr val="ffffff"/>
                </a:solidFill>
                <a:latin typeface="Shruti"/>
              </a:rPr>
              <a:t>дойде скоро</a:t>
            </a:r>
            <a:endParaRPr b="0" lang="en-US" sz="96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609480" y="4191120"/>
            <a:ext cx="7925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“</a:t>
            </a: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Онзи, Който свидетелства за това, казва: Наистина идвам скоро.”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00"/>
                </a:solidFill>
                <a:latin typeface="Shruti"/>
              </a:rPr>
              <a:t>Откровение 22:20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04920" y="366840"/>
            <a:ext cx="83055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Shruti"/>
              </a:rPr>
              <a:t>“</a:t>
            </a:r>
            <a:r>
              <a:rPr b="0" lang="bg-BG" sz="3600" spc="-1" strike="noStrike">
                <a:solidFill>
                  <a:srgbClr val="ffffff"/>
                </a:solidFill>
                <a:latin typeface="Shruti"/>
              </a:rPr>
              <a:t>Като Христови представители, трябва да изследваме Писанията, да търсим истината, скрита под боклука на заблудите. Всеки лъч светлина, който получаваме, трябва да бъде споделен с другите. Но една истина ще има надмощие, един предмет ще погълне всички други – </a:t>
            </a: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Shruti"/>
              </a:rPr>
              <a:t>Христос наша правда.”</a:t>
            </a: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Shruti"/>
              </a:rPr>
              <a:t>(“Синове и дъщери на Бога стр. 259 анг.)</a:t>
            </a:r>
            <a:endParaRPr b="0" lang="en-US" sz="32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0"/>
          <p:cNvSpPr/>
          <p:nvPr/>
        </p:nvSpPr>
        <p:spPr>
          <a:xfrm>
            <a:off x="5181480" y="2971800"/>
            <a:ext cx="2057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Варава</a:t>
            </a:r>
            <a:endParaRPr b="0" lang="en-US" sz="2400" spc="-1" strike="noStrike">
              <a:solidFill>
                <a:srgbClr val="ffffff"/>
              </a:solidFill>
              <a:latin typeface="Shrut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ного лош човек</a:t>
            </a:r>
            <a:endParaRPr b="0" lang="en-US" sz="2000" spc="-1" strike="noStrike">
              <a:solidFill>
                <a:srgbClr val="ffffff"/>
              </a:solidFill>
              <a:latin typeface="Shruti"/>
            </a:endParaRPr>
          </a:p>
        </p:txBody>
      </p:sp>
      <p:grpSp>
        <p:nvGrpSpPr>
          <p:cNvPr id="137" name="Group 64"/>
          <p:cNvGrpSpPr/>
          <p:nvPr/>
        </p:nvGrpSpPr>
        <p:grpSpPr>
          <a:xfrm>
            <a:off x="838080" y="1828800"/>
            <a:ext cx="990360" cy="3772080"/>
            <a:chOff x="838080" y="1828800"/>
            <a:chExt cx="990360" cy="3772080"/>
          </a:xfrm>
        </p:grpSpPr>
        <p:sp>
          <p:nvSpPr>
            <p:cNvPr id="138" name="AutoShape 65"/>
            <p:cNvSpPr/>
            <p:nvPr/>
          </p:nvSpPr>
          <p:spPr>
            <a:xfrm>
              <a:off x="1371240" y="3772080"/>
              <a:ext cx="228600" cy="1828800"/>
            </a:xfrm>
            <a:prstGeom prst="flowChartMerg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39" name="AutoShape 66"/>
            <p:cNvSpPr/>
            <p:nvPr/>
          </p:nvSpPr>
          <p:spPr>
            <a:xfrm>
              <a:off x="990360" y="3772080"/>
              <a:ext cx="304920" cy="1828800"/>
            </a:xfrm>
            <a:prstGeom prst="flowChartMerg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40" name="Oval 67"/>
            <p:cNvSpPr/>
            <p:nvPr/>
          </p:nvSpPr>
          <p:spPr>
            <a:xfrm>
              <a:off x="914040" y="2324160"/>
              <a:ext cx="838440" cy="190512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41" name="Oval 68"/>
            <p:cNvSpPr/>
            <p:nvPr/>
          </p:nvSpPr>
          <p:spPr>
            <a:xfrm>
              <a:off x="1142640" y="1828800"/>
              <a:ext cx="381240" cy="53352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42" name="Text Box 69"/>
            <p:cNvSpPr/>
            <p:nvPr/>
          </p:nvSpPr>
          <p:spPr>
            <a:xfrm>
              <a:off x="838080" y="2781360"/>
              <a:ext cx="99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00"/>
                  </a:solidFill>
                  <a:latin typeface="Tahoma"/>
                </a:rPr>
                <a:t> </a:t>
              </a:r>
              <a:r>
                <a:rPr b="1" lang="bg-BG" sz="4400" spc="-1" strike="noStrike">
                  <a:solidFill>
                    <a:srgbClr val="800000"/>
                  </a:solidFill>
                  <a:latin typeface="Tahoma"/>
                </a:rPr>
                <a:t>Н</a:t>
              </a:r>
              <a:endParaRPr b="0" lang="en-US" sz="4400" spc="-1" strike="noStrike">
                <a:solidFill>
                  <a:srgbClr val="ffffff"/>
                </a:solidFill>
                <a:latin typeface="Shruti"/>
              </a:endParaRPr>
            </a:p>
          </p:txBody>
        </p:sp>
      </p:grpSp>
      <p:grpSp>
        <p:nvGrpSpPr>
          <p:cNvPr id="143" name="Group 70"/>
          <p:cNvGrpSpPr/>
          <p:nvPr/>
        </p:nvGrpSpPr>
        <p:grpSpPr>
          <a:xfrm>
            <a:off x="7010280" y="1905120"/>
            <a:ext cx="1067040" cy="3733560"/>
            <a:chOff x="7010280" y="1905120"/>
            <a:chExt cx="1067040" cy="3733560"/>
          </a:xfrm>
        </p:grpSpPr>
        <p:sp>
          <p:nvSpPr>
            <p:cNvPr id="144" name="Oval 71"/>
            <p:cNvSpPr/>
            <p:nvPr/>
          </p:nvSpPr>
          <p:spPr>
            <a:xfrm>
              <a:off x="7238880" y="1905120"/>
              <a:ext cx="381240" cy="53316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45" name="AutoShape 72"/>
            <p:cNvSpPr/>
            <p:nvPr/>
          </p:nvSpPr>
          <p:spPr>
            <a:xfrm>
              <a:off x="7086600" y="3809880"/>
              <a:ext cx="304920" cy="1828800"/>
            </a:xfrm>
            <a:prstGeom prst="flowChartMerg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46" name="AutoShape 73"/>
            <p:cNvSpPr/>
            <p:nvPr/>
          </p:nvSpPr>
          <p:spPr>
            <a:xfrm>
              <a:off x="7467480" y="3772080"/>
              <a:ext cx="228600" cy="1828800"/>
            </a:xfrm>
            <a:prstGeom prst="flowChartMerg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47" name="Oval 74"/>
            <p:cNvSpPr/>
            <p:nvPr/>
          </p:nvSpPr>
          <p:spPr>
            <a:xfrm>
              <a:off x="7010280" y="2438280"/>
              <a:ext cx="838440" cy="190512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148" name="Text Box 75"/>
            <p:cNvSpPr/>
            <p:nvPr/>
          </p:nvSpPr>
          <p:spPr>
            <a:xfrm>
              <a:off x="7162920" y="2819520"/>
              <a:ext cx="91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Shruti"/>
              </a:endParaRPr>
            </a:p>
          </p:txBody>
        </p:sp>
      </p:grpSp>
      <p:sp>
        <p:nvSpPr>
          <p:cNvPr id="149" name="Text Box 14"/>
          <p:cNvSpPr/>
          <p:nvPr/>
        </p:nvSpPr>
        <p:spPr>
          <a:xfrm>
            <a:off x="0" y="314280"/>
            <a:ext cx="8839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1523520" y="34290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5562720" y="342900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1866960" y="2990880"/>
            <a:ext cx="2362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Никодим</a:t>
            </a:r>
            <a:endParaRPr b="0" lang="en-US" sz="2400" spc="-1" strike="noStrike">
              <a:solidFill>
                <a:srgbClr val="ffffff"/>
              </a:solidFill>
              <a:latin typeface="Shrut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ного добър човек</a:t>
            </a:r>
            <a:endParaRPr b="0" lang="en-US" sz="20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1295280" y="411480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Arial"/>
              </a:rPr>
              <a:t>Всички останали са между двамата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  </a:t>
            </a:r>
            <a:r>
              <a:rPr b="0" lang="bg-BG" sz="3200" spc="-1" strike="noStrike">
                <a:solidFill>
                  <a:srgbClr val="ffffcc"/>
                </a:solidFill>
                <a:latin typeface="Arial"/>
              </a:rPr>
              <a:t>Заедно те представят целия човешки род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4057560" y="320040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152280" y="56386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Каква е разликата между тези двама мъже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0" y="152280"/>
            <a:ext cx="9144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Shruti"/>
              </a:rPr>
              <a:t>Илюстрация на универсалния проблем грях</a:t>
            </a: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Shruti"/>
              </a:rPr>
              <a:t>Тези двама мъже представляват двете крайности на човешкия род.</a:t>
            </a: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5"/>
          <p:cNvSpPr/>
          <p:nvPr/>
        </p:nvSpPr>
        <p:spPr>
          <a:xfrm>
            <a:off x="1828800" y="1981080"/>
            <a:ext cx="2438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е изпълнен със себеправедност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Фил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. 3:6 b</a:t>
            </a: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grpSp>
        <p:nvGrpSpPr>
          <p:cNvPr id="158" name="Group 34"/>
          <p:cNvGrpSpPr/>
          <p:nvPr/>
        </p:nvGrpSpPr>
        <p:grpSpPr>
          <a:xfrm>
            <a:off x="990720" y="1523880"/>
            <a:ext cx="7238160" cy="3809880"/>
            <a:chOff x="990720" y="1523880"/>
            <a:chExt cx="7238160" cy="3809880"/>
          </a:xfrm>
        </p:grpSpPr>
        <p:grpSp>
          <p:nvGrpSpPr>
            <p:cNvPr id="159" name="Group 22"/>
            <p:cNvGrpSpPr/>
            <p:nvPr/>
          </p:nvGrpSpPr>
          <p:grpSpPr>
            <a:xfrm>
              <a:off x="990720" y="1523880"/>
              <a:ext cx="990360" cy="3772080"/>
              <a:chOff x="990720" y="1523880"/>
              <a:chExt cx="990360" cy="3772080"/>
            </a:xfrm>
          </p:grpSpPr>
          <p:sp>
            <p:nvSpPr>
              <p:cNvPr id="160" name="AutoShape 23"/>
              <p:cNvSpPr/>
              <p:nvPr/>
            </p:nvSpPr>
            <p:spPr>
              <a:xfrm>
                <a:off x="1523880" y="3467160"/>
                <a:ext cx="228600" cy="1828800"/>
              </a:xfrm>
              <a:prstGeom prst="flowChartMerg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61" name="AutoShape 24"/>
              <p:cNvSpPr/>
              <p:nvPr/>
            </p:nvSpPr>
            <p:spPr>
              <a:xfrm>
                <a:off x="1143000" y="3467160"/>
                <a:ext cx="304920" cy="1828800"/>
              </a:xfrm>
              <a:prstGeom prst="flowChartMerg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62" name="Oval 25"/>
              <p:cNvSpPr/>
              <p:nvPr/>
            </p:nvSpPr>
            <p:spPr>
              <a:xfrm>
                <a:off x="1066680" y="2019240"/>
                <a:ext cx="838440" cy="190512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63" name="Oval 26"/>
              <p:cNvSpPr/>
              <p:nvPr/>
            </p:nvSpPr>
            <p:spPr>
              <a:xfrm>
                <a:off x="1295280" y="1523880"/>
                <a:ext cx="381240" cy="53352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64" name="Text Box 27"/>
              <p:cNvSpPr/>
              <p:nvPr/>
            </p:nvSpPr>
            <p:spPr>
              <a:xfrm>
                <a:off x="990720" y="2476440"/>
                <a:ext cx="99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800000"/>
                    </a:solidFill>
                    <a:latin typeface="Tahoma"/>
                  </a:rPr>
                  <a:t> </a:t>
                </a:r>
                <a:r>
                  <a:rPr b="1" lang="en-US" sz="4400" spc="-1" strike="noStrike">
                    <a:solidFill>
                      <a:srgbClr val="800000"/>
                    </a:solidFill>
                    <a:latin typeface="Tahoma"/>
                  </a:rPr>
                  <a:t>H</a:t>
                </a:r>
                <a:endParaRPr b="0" lang="en-US" sz="44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7162560" y="1600200"/>
              <a:ext cx="1066320" cy="3733560"/>
              <a:chOff x="7162560" y="1600200"/>
              <a:chExt cx="1066320" cy="3733560"/>
            </a:xfrm>
          </p:grpSpPr>
          <p:sp>
            <p:nvSpPr>
              <p:cNvPr id="166" name="Oval 29"/>
              <p:cNvSpPr/>
              <p:nvPr/>
            </p:nvSpPr>
            <p:spPr>
              <a:xfrm>
                <a:off x="7390800" y="1600200"/>
                <a:ext cx="380880" cy="533160"/>
              </a:xfrm>
              <a:prstGeom prst="ellips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67" name="AutoShape 30"/>
              <p:cNvSpPr/>
              <p:nvPr/>
            </p:nvSpPr>
            <p:spPr>
              <a:xfrm>
                <a:off x="7238520" y="3504960"/>
                <a:ext cx="304560" cy="1828800"/>
              </a:xfrm>
              <a:prstGeom prst="flowChartMerg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68" name="AutoShape 31"/>
              <p:cNvSpPr/>
              <p:nvPr/>
            </p:nvSpPr>
            <p:spPr>
              <a:xfrm>
                <a:off x="7619400" y="3467160"/>
                <a:ext cx="228240" cy="1828800"/>
              </a:xfrm>
              <a:prstGeom prst="flowChartMerg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69" name="Oval 32"/>
              <p:cNvSpPr/>
              <p:nvPr/>
            </p:nvSpPr>
            <p:spPr>
              <a:xfrm>
                <a:off x="7162560" y="2133360"/>
                <a:ext cx="838080" cy="1905120"/>
              </a:xfrm>
              <a:prstGeom prst="ellips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70" name="Text Box 33"/>
              <p:cNvSpPr/>
              <p:nvPr/>
            </p:nvSpPr>
            <p:spPr>
              <a:xfrm>
                <a:off x="7314840" y="2514600"/>
                <a:ext cx="914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44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</p:grpSp>
      </p:grpSp>
      <p:sp>
        <p:nvSpPr>
          <p:cNvPr id="171" name="Text Box 18"/>
          <p:cNvSpPr/>
          <p:nvPr/>
        </p:nvSpPr>
        <p:spPr>
          <a:xfrm>
            <a:off x="1447920" y="3733920"/>
            <a:ext cx="60958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В Божиите очи и двамата са грешниц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—               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Римляни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3:9-20; </a:t>
            </a:r>
            <a:r>
              <a:rPr b="0" lang="bg-BG" sz="3600" spc="-1" strike="noStrike">
                <a:solidFill>
                  <a:srgbClr val="ffff00"/>
                </a:solidFill>
                <a:latin typeface="Arial"/>
              </a:rPr>
              <a:t>Исая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64:6</a:t>
            </a: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3111480" y="2470320"/>
            <a:ext cx="2743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Arial"/>
              </a:rPr>
              <a:t>Поведение</a:t>
            </a: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е са напълно различн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3124080" y="56386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Затов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74" name="Text Box 40"/>
          <p:cNvSpPr/>
          <p:nvPr/>
        </p:nvSpPr>
        <p:spPr>
          <a:xfrm>
            <a:off x="5562720" y="1981080"/>
            <a:ext cx="2438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е изпълнен с престъпления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</a:t>
            </a: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ит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 3:3</a:t>
            </a: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75" name="Line 41"/>
          <p:cNvSpPr/>
          <p:nvPr/>
        </p:nvSpPr>
        <p:spPr>
          <a:xfrm>
            <a:off x="5791320" y="2895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76" name="Line 13"/>
          <p:cNvSpPr/>
          <p:nvPr/>
        </p:nvSpPr>
        <p:spPr>
          <a:xfrm flipH="1">
            <a:off x="1752480" y="2895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77" name="Line 45"/>
          <p:cNvSpPr/>
          <p:nvPr/>
        </p:nvSpPr>
        <p:spPr>
          <a:xfrm flipH="1">
            <a:off x="1828800" y="342900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78" name="Line 46"/>
          <p:cNvSpPr/>
          <p:nvPr/>
        </p:nvSpPr>
        <p:spPr>
          <a:xfrm>
            <a:off x="5715000" y="342900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-542880" y="380880"/>
            <a:ext cx="10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Shruti"/>
              </a:rPr>
              <a:t>Разликата между тези двама мъже е</a:t>
            </a:r>
            <a:endParaRPr b="0" lang="en-US" sz="44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8"/>
          <p:cNvGrpSpPr/>
          <p:nvPr/>
        </p:nvGrpSpPr>
        <p:grpSpPr>
          <a:xfrm>
            <a:off x="990720" y="1523880"/>
            <a:ext cx="7238160" cy="3809880"/>
            <a:chOff x="990720" y="1523880"/>
            <a:chExt cx="7238160" cy="3809880"/>
          </a:xfrm>
        </p:grpSpPr>
        <p:grpSp>
          <p:nvGrpSpPr>
            <p:cNvPr id="181" name="Group 29"/>
            <p:cNvGrpSpPr/>
            <p:nvPr/>
          </p:nvGrpSpPr>
          <p:grpSpPr>
            <a:xfrm>
              <a:off x="990720" y="1523880"/>
              <a:ext cx="990360" cy="3772080"/>
              <a:chOff x="990720" y="1523880"/>
              <a:chExt cx="990360" cy="3772080"/>
            </a:xfrm>
          </p:grpSpPr>
          <p:sp>
            <p:nvSpPr>
              <p:cNvPr id="182" name="AutoShape 30"/>
              <p:cNvSpPr/>
              <p:nvPr/>
            </p:nvSpPr>
            <p:spPr>
              <a:xfrm>
                <a:off x="1523880" y="3467160"/>
                <a:ext cx="228600" cy="1828800"/>
              </a:xfrm>
              <a:prstGeom prst="flowChartMerg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83" name="AutoShape 31"/>
              <p:cNvSpPr/>
              <p:nvPr/>
            </p:nvSpPr>
            <p:spPr>
              <a:xfrm>
                <a:off x="1143000" y="3467160"/>
                <a:ext cx="304920" cy="1828800"/>
              </a:xfrm>
              <a:prstGeom prst="flowChartMerg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84" name="Oval 32"/>
              <p:cNvSpPr/>
              <p:nvPr/>
            </p:nvSpPr>
            <p:spPr>
              <a:xfrm>
                <a:off x="1066680" y="2019240"/>
                <a:ext cx="838440" cy="190512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85" name="Oval 33"/>
              <p:cNvSpPr/>
              <p:nvPr/>
            </p:nvSpPr>
            <p:spPr>
              <a:xfrm>
                <a:off x="1295280" y="1523880"/>
                <a:ext cx="381240" cy="53352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86" name="Text Box 34"/>
              <p:cNvSpPr/>
              <p:nvPr/>
            </p:nvSpPr>
            <p:spPr>
              <a:xfrm>
                <a:off x="990720" y="2476440"/>
                <a:ext cx="99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800000"/>
                    </a:solidFill>
                    <a:latin typeface="Tahoma"/>
                  </a:rPr>
                  <a:t> </a:t>
                </a:r>
                <a:r>
                  <a:rPr b="1" lang="en-US" sz="4400" spc="-1" strike="noStrike">
                    <a:solidFill>
                      <a:srgbClr val="800000"/>
                    </a:solidFill>
                    <a:latin typeface="Tahoma"/>
                  </a:rPr>
                  <a:t>H</a:t>
                </a:r>
                <a:endParaRPr b="0" lang="en-US" sz="44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</p:grpSp>
        <p:grpSp>
          <p:nvGrpSpPr>
            <p:cNvPr id="187" name="Group 35"/>
            <p:cNvGrpSpPr/>
            <p:nvPr/>
          </p:nvGrpSpPr>
          <p:grpSpPr>
            <a:xfrm>
              <a:off x="7162560" y="1600200"/>
              <a:ext cx="1066320" cy="3733560"/>
              <a:chOff x="7162560" y="1600200"/>
              <a:chExt cx="1066320" cy="3733560"/>
            </a:xfrm>
          </p:grpSpPr>
          <p:sp>
            <p:nvSpPr>
              <p:cNvPr id="188" name="Oval 36"/>
              <p:cNvSpPr/>
              <p:nvPr/>
            </p:nvSpPr>
            <p:spPr>
              <a:xfrm>
                <a:off x="7390800" y="1600200"/>
                <a:ext cx="380880" cy="533160"/>
              </a:xfrm>
              <a:prstGeom prst="ellips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89" name="AutoShape 37"/>
              <p:cNvSpPr/>
              <p:nvPr/>
            </p:nvSpPr>
            <p:spPr>
              <a:xfrm>
                <a:off x="7238520" y="3504960"/>
                <a:ext cx="304560" cy="1828800"/>
              </a:xfrm>
              <a:prstGeom prst="flowChartMerg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90" name="AutoShape 38"/>
              <p:cNvSpPr/>
              <p:nvPr/>
            </p:nvSpPr>
            <p:spPr>
              <a:xfrm>
                <a:off x="7619400" y="3467160"/>
                <a:ext cx="228240" cy="1828800"/>
              </a:xfrm>
              <a:prstGeom prst="flowChartMerg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91" name="Oval 39"/>
              <p:cNvSpPr/>
              <p:nvPr/>
            </p:nvSpPr>
            <p:spPr>
              <a:xfrm>
                <a:off x="7162560" y="2133360"/>
                <a:ext cx="838080" cy="1905120"/>
              </a:xfrm>
              <a:prstGeom prst="ellips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192" name="Text Box 40"/>
              <p:cNvSpPr/>
              <p:nvPr/>
            </p:nvSpPr>
            <p:spPr>
              <a:xfrm>
                <a:off x="7314840" y="2514600"/>
                <a:ext cx="914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44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</p:grpSp>
      </p:grpSp>
      <p:sp>
        <p:nvSpPr>
          <p:cNvPr id="193" name="Text Box 27"/>
          <p:cNvSpPr/>
          <p:nvPr/>
        </p:nvSpPr>
        <p:spPr>
          <a:xfrm>
            <a:off x="355680" y="9360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Arial"/>
              </a:rPr>
              <a:t>В края те ще отидат на едно и също място, без зачение, колко е бил по-добър единия от другия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94" name="Line 13"/>
          <p:cNvSpPr/>
          <p:nvPr/>
        </p:nvSpPr>
        <p:spPr>
          <a:xfrm flipH="1">
            <a:off x="1785600" y="28195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5638680" y="28195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1854360" y="24382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е изпълнен със себеправедно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Фил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. 3:6 b</a:t>
            </a: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5562720" y="24382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е изпълнен с престъпления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</a:t>
            </a:r>
            <a:r>
              <a:rPr b="1" lang="bg-BG" sz="1800" spc="-1" strike="noStrike" u="sng">
                <a:solidFill>
                  <a:srgbClr val="ffff00"/>
                </a:solidFill>
                <a:uFillTx/>
                <a:latin typeface="Arial"/>
              </a:rPr>
              <a:t>ит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 3:3</a:t>
            </a: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2819520" y="5105520"/>
            <a:ext cx="32004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3328920" y="5162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Tahoma"/>
              </a:rPr>
              <a:t>Гробът</a:t>
            </a:r>
            <a:endParaRPr b="0" lang="en-US" sz="2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1647720" y="3581280"/>
            <a:ext cx="1600200" cy="1828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01" name="Line 23"/>
          <p:cNvSpPr/>
          <p:nvPr/>
        </p:nvSpPr>
        <p:spPr>
          <a:xfrm flipH="1">
            <a:off x="5609880" y="3505320"/>
            <a:ext cx="1676520" cy="1904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1905120" y="590724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Arial"/>
              </a:rPr>
              <a:t>Какъв е проблемът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2590920" y="43434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платата за греха 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Римляни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6:23</a:t>
            </a:r>
            <a:endParaRPr b="0" lang="en-US" sz="24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2"/>
          <p:cNvSpPr/>
          <p:nvPr/>
        </p:nvSpPr>
        <p:spPr>
          <a:xfrm>
            <a:off x="685800" y="112680"/>
            <a:ext cx="77724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Проблемът не е в поведението им, себеправедността или грешните дела, но в природата на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Shruti"/>
              </a:rPr>
              <a:t>ГРЕХА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с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 51:5; 58:3</a:t>
            </a:r>
            <a:r>
              <a:rPr b="0" lang="en-US" sz="1800" spc="-1" strike="noStrike">
                <a:solidFill>
                  <a:srgbClr val="ffff00"/>
                </a:solidFill>
                <a:latin typeface="Shrut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ffffff"/>
              </a:solidFill>
              <a:latin typeface="Shruti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990720" y="1523880"/>
            <a:ext cx="7238160" cy="3809880"/>
            <a:chOff x="990720" y="1523880"/>
            <a:chExt cx="7238160" cy="3809880"/>
          </a:xfrm>
        </p:grpSpPr>
        <p:grpSp>
          <p:nvGrpSpPr>
            <p:cNvPr id="206" name="Group 51"/>
            <p:cNvGrpSpPr/>
            <p:nvPr/>
          </p:nvGrpSpPr>
          <p:grpSpPr>
            <a:xfrm>
              <a:off x="990720" y="1523880"/>
              <a:ext cx="990360" cy="3772080"/>
              <a:chOff x="990720" y="1523880"/>
              <a:chExt cx="990360" cy="3772080"/>
            </a:xfrm>
          </p:grpSpPr>
          <p:sp>
            <p:nvSpPr>
              <p:cNvPr id="207" name="AutoShape 52"/>
              <p:cNvSpPr/>
              <p:nvPr/>
            </p:nvSpPr>
            <p:spPr>
              <a:xfrm>
                <a:off x="1523880" y="3467160"/>
                <a:ext cx="228600" cy="1828800"/>
              </a:xfrm>
              <a:prstGeom prst="flowChartMerg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08" name="AutoShape 53"/>
              <p:cNvSpPr/>
              <p:nvPr/>
            </p:nvSpPr>
            <p:spPr>
              <a:xfrm>
                <a:off x="1143000" y="3467160"/>
                <a:ext cx="304920" cy="1828800"/>
              </a:xfrm>
              <a:prstGeom prst="flowChartMerg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09" name="Oval 54"/>
              <p:cNvSpPr/>
              <p:nvPr/>
            </p:nvSpPr>
            <p:spPr>
              <a:xfrm>
                <a:off x="1066680" y="2019240"/>
                <a:ext cx="838440" cy="190512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10" name="Oval 55"/>
              <p:cNvSpPr/>
              <p:nvPr/>
            </p:nvSpPr>
            <p:spPr>
              <a:xfrm>
                <a:off x="1295280" y="1523880"/>
                <a:ext cx="381240" cy="53352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11" name="Text Box 56"/>
              <p:cNvSpPr/>
              <p:nvPr/>
            </p:nvSpPr>
            <p:spPr>
              <a:xfrm>
                <a:off x="990720" y="2476440"/>
                <a:ext cx="99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800000"/>
                    </a:solidFill>
                    <a:latin typeface="Tahoma"/>
                  </a:rPr>
                  <a:t> </a:t>
                </a:r>
                <a:r>
                  <a:rPr b="1" lang="en-US" sz="4400" spc="-1" strike="noStrike">
                    <a:solidFill>
                      <a:srgbClr val="800000"/>
                    </a:solidFill>
                    <a:latin typeface="Tahoma"/>
                  </a:rPr>
                  <a:t>H</a:t>
                </a:r>
                <a:endParaRPr b="0" lang="en-US" sz="44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</p:grpSp>
        <p:grpSp>
          <p:nvGrpSpPr>
            <p:cNvPr id="212" name="Group 57"/>
            <p:cNvGrpSpPr/>
            <p:nvPr/>
          </p:nvGrpSpPr>
          <p:grpSpPr>
            <a:xfrm>
              <a:off x="7162560" y="1600200"/>
              <a:ext cx="1066320" cy="3733560"/>
              <a:chOff x="7162560" y="1600200"/>
              <a:chExt cx="1066320" cy="3733560"/>
            </a:xfrm>
          </p:grpSpPr>
          <p:sp>
            <p:nvSpPr>
              <p:cNvPr id="213" name="Oval 58"/>
              <p:cNvSpPr/>
              <p:nvPr/>
            </p:nvSpPr>
            <p:spPr>
              <a:xfrm>
                <a:off x="7390800" y="1600200"/>
                <a:ext cx="380880" cy="533160"/>
              </a:xfrm>
              <a:prstGeom prst="ellips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14" name="AutoShape 59"/>
              <p:cNvSpPr/>
              <p:nvPr/>
            </p:nvSpPr>
            <p:spPr>
              <a:xfrm>
                <a:off x="7238520" y="3504960"/>
                <a:ext cx="304560" cy="1828800"/>
              </a:xfrm>
              <a:prstGeom prst="flowChartMerg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15" name="AutoShape 60"/>
              <p:cNvSpPr/>
              <p:nvPr/>
            </p:nvSpPr>
            <p:spPr>
              <a:xfrm>
                <a:off x="7619400" y="3467160"/>
                <a:ext cx="228240" cy="1828800"/>
              </a:xfrm>
              <a:prstGeom prst="flowChartMerg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16" name="Oval 61"/>
              <p:cNvSpPr/>
              <p:nvPr/>
            </p:nvSpPr>
            <p:spPr>
              <a:xfrm>
                <a:off x="7162560" y="2133360"/>
                <a:ext cx="838080" cy="1905120"/>
              </a:xfrm>
              <a:prstGeom prst="ellips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17" name="Text Box 62"/>
              <p:cNvSpPr/>
              <p:nvPr/>
            </p:nvSpPr>
            <p:spPr>
              <a:xfrm>
                <a:off x="7314840" y="2514600"/>
                <a:ext cx="914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44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</p:grpSp>
      </p:grpSp>
      <p:grpSp>
        <p:nvGrpSpPr>
          <p:cNvPr id="218" name="Group 65"/>
          <p:cNvGrpSpPr/>
          <p:nvPr/>
        </p:nvGrpSpPr>
        <p:grpSpPr>
          <a:xfrm>
            <a:off x="1752120" y="2809800"/>
            <a:ext cx="2557800" cy="916920"/>
            <a:chOff x="1752120" y="2809800"/>
            <a:chExt cx="2557800" cy="916920"/>
          </a:xfrm>
        </p:grpSpPr>
        <p:sp>
          <p:nvSpPr>
            <p:cNvPr id="219" name="Line 38"/>
            <p:cNvSpPr/>
            <p:nvPr/>
          </p:nvSpPr>
          <p:spPr>
            <a:xfrm flipH="1">
              <a:off x="1752120" y="28195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220" name="Text Box 40"/>
            <p:cNvSpPr/>
            <p:nvPr/>
          </p:nvSpPr>
          <p:spPr>
            <a:xfrm>
              <a:off x="1871640" y="280980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 </a:t>
              </a: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е изпълнен със себеправедност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bg-BG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Фил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. 3:6 b</a:t>
              </a: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</p:grpSp>
      <p:grpSp>
        <p:nvGrpSpPr>
          <p:cNvPr id="221" name="Group 66"/>
          <p:cNvGrpSpPr/>
          <p:nvPr/>
        </p:nvGrpSpPr>
        <p:grpSpPr>
          <a:xfrm>
            <a:off x="5638680" y="2770200"/>
            <a:ext cx="1981440" cy="916920"/>
            <a:chOff x="5638680" y="2770200"/>
            <a:chExt cx="1981440" cy="916920"/>
          </a:xfrm>
        </p:grpSpPr>
        <p:sp>
          <p:nvSpPr>
            <p:cNvPr id="222" name="Line 39"/>
            <p:cNvSpPr/>
            <p:nvPr/>
          </p:nvSpPr>
          <p:spPr>
            <a:xfrm>
              <a:off x="5638680" y="281952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223" name="Text Box 41"/>
            <p:cNvSpPr/>
            <p:nvPr/>
          </p:nvSpPr>
          <p:spPr>
            <a:xfrm>
              <a:off x="5715000" y="2770200"/>
              <a:ext cx="190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 е изпълнен с престъпления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T</a:t>
              </a:r>
              <a:r>
                <a:rPr b="1" lang="bg-BG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ит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 3:3</a:t>
              </a: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</p:grpSp>
      <p:sp>
        <p:nvSpPr>
          <p:cNvPr id="224" name="Text Box 49"/>
          <p:cNvSpPr/>
          <p:nvPr/>
        </p:nvSpPr>
        <p:spPr>
          <a:xfrm>
            <a:off x="185760" y="4572000"/>
            <a:ext cx="886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 u="sng">
                <a:solidFill>
                  <a:srgbClr val="ffff00"/>
                </a:solidFill>
                <a:uFillTx/>
                <a:latin typeface="Arial"/>
              </a:rPr>
              <a:t>Забележете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ffffcc"/>
                </a:solidFill>
                <a:latin typeface="Arial"/>
              </a:rPr>
              <a:t>Грешното естество ни прави грешници. Грешните ни дела само показват какви сме по природа.</a:t>
            </a:r>
            <a:endParaRPr b="0" lang="en-US" sz="32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Римляни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5:12,19a;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фесяни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:3b.</a:t>
            </a:r>
            <a:endParaRPr b="0" lang="en-US" sz="32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90600" y="45720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Новият Завет представя </a:t>
            </a:r>
            <a:r>
              <a:rPr b="0" lang="bg-BG" sz="4000" spc="-1" strike="noStrike">
                <a:solidFill>
                  <a:srgbClr val="ffff00"/>
                </a:solidFill>
                <a:latin typeface="Shruti"/>
              </a:rPr>
              <a:t>две</a:t>
            </a: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 категории гря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228600" y="236232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Първата е </a:t>
            </a:r>
            <a:r>
              <a:rPr b="0" lang="bg-BG" sz="4000" spc="-1" strike="noStrike">
                <a:solidFill>
                  <a:srgbClr val="ffff00"/>
                </a:solidFill>
                <a:latin typeface="Shruti"/>
              </a:rPr>
              <a:t>грях</a:t>
            </a: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 като глагол (действие или поведение на човечеството – (хамартано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hamartan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80880" y="38098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457200" y="4191120"/>
            <a:ext cx="8305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Втората е </a:t>
            </a:r>
            <a:r>
              <a:rPr b="0" lang="bg-BG" sz="4000" spc="-1" strike="noStrike">
                <a:solidFill>
                  <a:srgbClr val="ffff00"/>
                </a:solidFill>
                <a:latin typeface="Shruti"/>
              </a:rPr>
              <a:t>грях</a:t>
            </a: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 като съществително (състояние или естество – (хамарти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hamarti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304920" y="501480"/>
            <a:ext cx="8381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04920" y="411480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Shruti"/>
              </a:rPr>
              <a:t>Павел нарича това </a:t>
            </a:r>
            <a:r>
              <a:rPr b="0" i="1" lang="bg-BG" sz="4800" spc="-1" strike="noStrike">
                <a:solidFill>
                  <a:srgbClr val="ffff00"/>
                </a:solidFill>
                <a:latin typeface="Shruti"/>
              </a:rPr>
              <a:t>“закона на греха в телесните ми части.” </a:t>
            </a:r>
            <a:r>
              <a:rPr b="0" lang="bg-BG" sz="4800" spc="-1" strike="noStrike">
                <a:solidFill>
                  <a:srgbClr val="ffff00"/>
                </a:solidFill>
                <a:latin typeface="Shruti"/>
              </a:rPr>
              <a:t>Римляни 7:14-25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0" y="228600"/>
            <a:ext cx="914400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Shruti"/>
              </a:rPr>
              <a:t>Докато ние имаме способността да променяме нашето поведение </a:t>
            </a:r>
            <a:r>
              <a:rPr b="0" lang="bg-BG" sz="4400" spc="-1" strike="noStrike">
                <a:solidFill>
                  <a:srgbClr val="ffff00"/>
                </a:solidFill>
                <a:latin typeface="Shruti"/>
              </a:rPr>
              <a:t>(грехове)</a:t>
            </a:r>
            <a:r>
              <a:rPr b="0" lang="bg-BG" sz="4400" spc="-1" strike="noStrike">
                <a:solidFill>
                  <a:srgbClr val="ffffff"/>
                </a:solidFill>
                <a:latin typeface="Shruti"/>
              </a:rPr>
              <a:t>, ние сме абсолютно безпомощни да се справим с </a:t>
            </a:r>
            <a:r>
              <a:rPr b="0" lang="bg-BG" sz="4400" spc="-1" strike="noStrike">
                <a:solidFill>
                  <a:srgbClr val="ffff00"/>
                </a:solidFill>
                <a:latin typeface="Shruti"/>
              </a:rPr>
              <a:t>греха</a:t>
            </a:r>
            <a:r>
              <a:rPr b="0" lang="bg-BG" sz="4400" spc="-1" strike="noStrike">
                <a:solidFill>
                  <a:srgbClr val="ffffff"/>
                </a:solidFill>
                <a:latin typeface="Shruti"/>
              </a:rPr>
              <a:t> като естество или състояние. </a:t>
            </a:r>
            <a:endParaRPr b="0" lang="en-US" sz="44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Shruti"/>
              </a:rPr>
              <a:t>Еремия 13:23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7"/>
          <p:cNvSpPr/>
          <p:nvPr/>
        </p:nvSpPr>
        <p:spPr>
          <a:xfrm>
            <a:off x="0" y="4854600"/>
            <a:ext cx="8915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bg-BG" sz="3200" spc="-1" strike="noStrike">
                <a:solidFill>
                  <a:srgbClr val="ffffff"/>
                </a:solidFill>
                <a:latin typeface="Shruti"/>
              </a:rPr>
              <a:t>Всички религиозни и човешки решения се опитват да преместят хората от положението</a:t>
            </a:r>
            <a:r>
              <a:rPr b="0" lang="en-US" sz="3200" spc="-1" strike="noStrike">
                <a:solidFill>
                  <a:srgbClr val="ffffff"/>
                </a:solidFill>
                <a:latin typeface="Shruti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Shruti"/>
              </a:rPr>
              <a:t>на Варнава към положението на Никодим.</a:t>
            </a:r>
            <a:endParaRPr b="0" lang="en-US" sz="3200" spc="-1" strike="noStrike">
              <a:solidFill>
                <a:srgbClr val="ffffff"/>
              </a:solidFill>
              <a:latin typeface="Shrut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hruti"/>
            </a:endParaRPr>
          </a:p>
        </p:txBody>
      </p:sp>
      <p:grpSp>
        <p:nvGrpSpPr>
          <p:cNvPr id="233" name="Group 32"/>
          <p:cNvGrpSpPr/>
          <p:nvPr/>
        </p:nvGrpSpPr>
        <p:grpSpPr>
          <a:xfrm>
            <a:off x="990720" y="1523880"/>
            <a:ext cx="7238160" cy="3809880"/>
            <a:chOff x="990720" y="1523880"/>
            <a:chExt cx="7238160" cy="3809880"/>
          </a:xfrm>
        </p:grpSpPr>
        <p:grpSp>
          <p:nvGrpSpPr>
            <p:cNvPr id="234" name="Group 33"/>
            <p:cNvGrpSpPr/>
            <p:nvPr/>
          </p:nvGrpSpPr>
          <p:grpSpPr>
            <a:xfrm>
              <a:off x="990720" y="1523880"/>
              <a:ext cx="990360" cy="3772080"/>
              <a:chOff x="990720" y="1523880"/>
              <a:chExt cx="990360" cy="3772080"/>
            </a:xfrm>
          </p:grpSpPr>
          <p:sp>
            <p:nvSpPr>
              <p:cNvPr id="235" name="AutoShape 34"/>
              <p:cNvSpPr/>
              <p:nvPr/>
            </p:nvSpPr>
            <p:spPr>
              <a:xfrm>
                <a:off x="1523880" y="3467160"/>
                <a:ext cx="228600" cy="1828800"/>
              </a:xfrm>
              <a:prstGeom prst="flowChartMerg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36" name="AutoShape 35"/>
              <p:cNvSpPr/>
              <p:nvPr/>
            </p:nvSpPr>
            <p:spPr>
              <a:xfrm>
                <a:off x="1143000" y="3467160"/>
                <a:ext cx="304920" cy="1828800"/>
              </a:xfrm>
              <a:prstGeom prst="flowChartMerg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37" name="Oval 36"/>
              <p:cNvSpPr/>
              <p:nvPr/>
            </p:nvSpPr>
            <p:spPr>
              <a:xfrm>
                <a:off x="1066680" y="2019240"/>
                <a:ext cx="838440" cy="190512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38" name="Oval 37"/>
              <p:cNvSpPr/>
              <p:nvPr/>
            </p:nvSpPr>
            <p:spPr>
              <a:xfrm>
                <a:off x="1295280" y="1523880"/>
                <a:ext cx="381240" cy="53352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39" name="Text Box 38"/>
              <p:cNvSpPr/>
              <p:nvPr/>
            </p:nvSpPr>
            <p:spPr>
              <a:xfrm>
                <a:off x="990720" y="2476440"/>
                <a:ext cx="99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800000"/>
                    </a:solidFill>
                    <a:latin typeface="Tahoma"/>
                  </a:rPr>
                  <a:t> </a:t>
                </a:r>
                <a:r>
                  <a:rPr b="1" lang="en-US" sz="4400" spc="-1" strike="noStrike">
                    <a:solidFill>
                      <a:srgbClr val="800000"/>
                    </a:solidFill>
                    <a:latin typeface="Tahoma"/>
                  </a:rPr>
                  <a:t>H</a:t>
                </a:r>
                <a:endParaRPr b="0" lang="en-US" sz="44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</p:grpSp>
        <p:grpSp>
          <p:nvGrpSpPr>
            <p:cNvPr id="240" name="Group 39"/>
            <p:cNvGrpSpPr/>
            <p:nvPr/>
          </p:nvGrpSpPr>
          <p:grpSpPr>
            <a:xfrm>
              <a:off x="7162560" y="1600200"/>
              <a:ext cx="1066320" cy="3733560"/>
              <a:chOff x="7162560" y="1600200"/>
              <a:chExt cx="1066320" cy="3733560"/>
            </a:xfrm>
          </p:grpSpPr>
          <p:sp>
            <p:nvSpPr>
              <p:cNvPr id="241" name="Oval 40"/>
              <p:cNvSpPr/>
              <p:nvPr/>
            </p:nvSpPr>
            <p:spPr>
              <a:xfrm>
                <a:off x="7390800" y="1600200"/>
                <a:ext cx="380880" cy="533160"/>
              </a:xfrm>
              <a:prstGeom prst="ellips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42" name="AutoShape 41"/>
              <p:cNvSpPr/>
              <p:nvPr/>
            </p:nvSpPr>
            <p:spPr>
              <a:xfrm>
                <a:off x="7238520" y="3504960"/>
                <a:ext cx="304560" cy="1828800"/>
              </a:xfrm>
              <a:prstGeom prst="flowChartMerg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43" name="AutoShape 42"/>
              <p:cNvSpPr/>
              <p:nvPr/>
            </p:nvSpPr>
            <p:spPr>
              <a:xfrm>
                <a:off x="7619400" y="3467160"/>
                <a:ext cx="228240" cy="1828800"/>
              </a:xfrm>
              <a:prstGeom prst="flowChartMerg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44" name="Oval 43"/>
              <p:cNvSpPr/>
              <p:nvPr/>
            </p:nvSpPr>
            <p:spPr>
              <a:xfrm>
                <a:off x="7162560" y="2133360"/>
                <a:ext cx="838080" cy="1905120"/>
              </a:xfrm>
              <a:prstGeom prst="ellipse">
                <a:avLst/>
              </a:prstGeom>
              <a:solidFill>
                <a:srgbClr val="77777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  <p:sp>
            <p:nvSpPr>
              <p:cNvPr id="245" name="Text Box 44"/>
              <p:cNvSpPr/>
              <p:nvPr/>
            </p:nvSpPr>
            <p:spPr>
              <a:xfrm>
                <a:off x="7314840" y="2514600"/>
                <a:ext cx="914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4400" spc="-1" strike="noStrike">
                  <a:solidFill>
                    <a:srgbClr val="ffffff"/>
                  </a:solidFill>
                  <a:latin typeface="Shruti"/>
                </a:endParaRPr>
              </a:p>
            </p:txBody>
          </p:sp>
        </p:grpSp>
      </p:grpSp>
      <p:sp>
        <p:nvSpPr>
          <p:cNvPr id="246" name="Text Box 28"/>
          <p:cNvSpPr/>
          <p:nvPr/>
        </p:nvSpPr>
        <p:spPr>
          <a:xfrm>
            <a:off x="0" y="-554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Shruti"/>
              </a:rPr>
              <a:t>Човечеството (както ангели или дявола) няма разрешение на проблема грешно естество.</a:t>
            </a:r>
            <a:endParaRPr b="0" lang="en-US" sz="4000" spc="-1" strike="noStrike">
              <a:solidFill>
                <a:srgbClr val="ffffff"/>
              </a:solidFill>
              <a:latin typeface="Shruti"/>
            </a:endParaRPr>
          </a:p>
        </p:txBody>
      </p:sp>
      <p:grpSp>
        <p:nvGrpSpPr>
          <p:cNvPr id="247" name="Group 45"/>
          <p:cNvGrpSpPr/>
          <p:nvPr/>
        </p:nvGrpSpPr>
        <p:grpSpPr>
          <a:xfrm>
            <a:off x="1752120" y="2438280"/>
            <a:ext cx="2557800" cy="916920"/>
            <a:chOff x="1752120" y="2438280"/>
            <a:chExt cx="2557800" cy="916920"/>
          </a:xfrm>
        </p:grpSpPr>
        <p:sp>
          <p:nvSpPr>
            <p:cNvPr id="248" name="Line 13"/>
            <p:cNvSpPr/>
            <p:nvPr/>
          </p:nvSpPr>
          <p:spPr>
            <a:xfrm flipH="1">
              <a:off x="1752120" y="28195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249" name="Text Box 15"/>
            <p:cNvSpPr/>
            <p:nvPr/>
          </p:nvSpPr>
          <p:spPr>
            <a:xfrm>
              <a:off x="1871640" y="243828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Н е изпълнен със себеправедност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  Фил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. 3:6 b</a:t>
              </a: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</p:grpSp>
      <p:sp>
        <p:nvSpPr>
          <p:cNvPr id="250" name="Rectangle 18"/>
          <p:cNvSpPr/>
          <p:nvPr/>
        </p:nvSpPr>
        <p:spPr>
          <a:xfrm>
            <a:off x="2666880" y="1828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grpSp>
        <p:nvGrpSpPr>
          <p:cNvPr id="251" name="Group 46"/>
          <p:cNvGrpSpPr/>
          <p:nvPr/>
        </p:nvGrpSpPr>
        <p:grpSpPr>
          <a:xfrm>
            <a:off x="5715000" y="2438280"/>
            <a:ext cx="1905120" cy="916920"/>
            <a:chOff x="5715000" y="2438280"/>
            <a:chExt cx="1905120" cy="916920"/>
          </a:xfrm>
        </p:grpSpPr>
        <p:sp>
          <p:nvSpPr>
            <p:cNvPr id="252" name="Text Box 16"/>
            <p:cNvSpPr/>
            <p:nvPr/>
          </p:nvSpPr>
          <p:spPr>
            <a:xfrm>
              <a:off x="5715000" y="2438280"/>
              <a:ext cx="190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 </a:t>
              </a: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е пълен с престъпления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T</a:t>
              </a:r>
              <a:r>
                <a:rPr b="1" lang="bg-BG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ит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 3:3</a:t>
              </a: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  <p:sp>
          <p:nvSpPr>
            <p:cNvPr id="253" name="Line 24"/>
            <p:cNvSpPr/>
            <p:nvPr/>
          </p:nvSpPr>
          <p:spPr>
            <a:xfrm>
              <a:off x="5715000" y="281952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hruti"/>
              </a:endParaRPr>
            </a:p>
          </p:txBody>
        </p:sp>
      </p:grpSp>
      <p:sp>
        <p:nvSpPr>
          <p:cNvPr id="254" name="Line 26"/>
          <p:cNvSpPr/>
          <p:nvPr/>
        </p:nvSpPr>
        <p:spPr>
          <a:xfrm flipH="1">
            <a:off x="1790640" y="4495680"/>
            <a:ext cx="5486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2362320" y="365760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1854360" y="3886200"/>
            <a:ext cx="549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Shruti"/>
              </a:rPr>
              <a:t>Нашият човешки проблем</a:t>
            </a:r>
            <a:r>
              <a:rPr b="0" lang="bg-BG" sz="3200" spc="-1" strike="noStrike">
                <a:solidFill>
                  <a:srgbClr val="ffffff"/>
                </a:solidFill>
                <a:latin typeface="Shruti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177840" y="63342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bg-BG" sz="2800" spc="-1" strike="noStrike">
                <a:solidFill>
                  <a:srgbClr val="ffff00"/>
                </a:solidFill>
                <a:latin typeface="Shruti"/>
              </a:rPr>
              <a:t>да променят грешното поведение от лошо към добро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3352680" y="18288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Йоан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3: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Shruti"/>
            </a:endParaRPr>
          </a:p>
        </p:txBody>
      </p:sp>
      <p:sp>
        <p:nvSpPr>
          <p:cNvPr id="259" name="Rectangle 29"/>
          <p:cNvSpPr/>
          <p:nvPr/>
        </p:nvSpPr>
        <p:spPr>
          <a:xfrm>
            <a:off x="2286000" y="2828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hrut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04:20:12Z</dcterms:created>
  <dc:creator>Jack</dc:creator>
  <dc:description/>
  <dc:language>en-US</dc:language>
  <cp:lastModifiedBy>Petar</cp:lastModifiedBy>
  <dcterms:modified xsi:type="dcterms:W3CDTF">2010-10-07T11:46:37Z</dcterms:modified>
  <cp:revision>259</cp:revision>
  <dc:subject/>
  <dc:title>The 1888 Message of Christ our Righteousness</dc:title>
</cp:coreProperties>
</file>