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057-0F30-47D2-B293-02691E44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114-EFF6-4F68-A3BF-F09516AB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E43-CC0E-4006-A12C-F51F269E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9F3-5126-4DB2-B57D-22005A7C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D1B7-8862-4F80-9A27-1AB11C6E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D582-84BE-4C5E-B1F7-CD3EE5A9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2979-C74B-4984-AD2E-3B5426FC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CA18-6EC7-4D88-B47D-AF01B5A4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5C41-8556-4C3F-8017-63265BBF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8FEB-4EA9-4B21-A50C-EE38BA8C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675C-C449-4353-8D3C-789D7838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4CC-85CB-4F21-9983-4EA7B983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7BC5-EE22-45B0-B8BE-BB91C38D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75C8-7BFF-4D7E-9D95-1262E289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534F-EE66-41E8-B6E7-4B135D3F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01A2-BF95-4493-8B33-DF68680B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FAE1-4C11-45E5-AA66-1B20CC04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77F-98DD-4791-B549-F34D77D3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323-819B-4625-8962-499F6A15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641-F0D2-47E9-A7FD-BE7143F0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B9A-1C92-4C6A-A765-E8E79944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062-34AC-49A4-98A6-0A81F113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982-A93D-49F7-829F-AE92F263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974-17FB-49F3-9260-D7AEEA3D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719B-4C6C-4241-AC67-329AFCEF2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8AF8-A15B-4366-87F0-A4AB188411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00"/>
                </a:solidFill>
                <a:latin typeface="Arial"/>
              </a:rPr>
              <a:t>Борбата между Божията любов </a:t>
            </a:r>
            <a:r>
              <a:rPr b="0" i="1" lang="bg-BG" sz="40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lang="bg-BG" sz="4000" spc="-1" strike="noStrike">
                <a:solidFill>
                  <a:srgbClr val="ffff00"/>
                </a:solidFill>
                <a:latin typeface="Arial"/>
              </a:rPr>
              <a:t> и човешката любов </a:t>
            </a:r>
            <a:r>
              <a:rPr b="0" i="1" lang="bg-BG" sz="4000" spc="-1" strike="noStrike">
                <a:solidFill>
                  <a:srgbClr val="ffff00"/>
                </a:solidFill>
                <a:latin typeface="Arial"/>
              </a:rPr>
              <a:t>Ер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атанинската атака срещу Божията любов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е започнала в ранното християнство. Първата личност използвана от Сатана бил Маркион (около 150 години сл. Хр.) Той се опитал да замени думата</a:t>
            </a: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 с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Ерос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тората личност, която използвал бил Ориген (около 250 г. Сл. Хр.), който фактически променил думата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в 1Йоан 4:8,16 на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Ерос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(човешка любов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Битката между любовта </a:t>
            </a: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Ерос</a:t>
            </a: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ро-дължила около 400 годин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Битката приключила в църквата в 5-ти век, когато Августин се появил с компроми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ато смесил Божията</a:t>
            </a: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 любов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с човешката любов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Ерос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, Августин въвел нов термин за любов и нарекъл любовта на компромиса с думата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Каритас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Любовта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Каритас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била напълно приета от християнската църква, особено от Католическата църк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 резултат Евангелието било изопачено и църквата потънала в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“Тъмните средни векове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За нещастие това изопачено Евангелие се практикува все още във всички деномина-ции и ограбва мнозина от радостта, мира и сигурността на спасение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Това изопачено Евангелие е представено с диаграмата в следващия слай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991720" cy="6400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Ето как идеята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“Каритас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” изопачи Евангели-ето и от добра вест го превърна в добър съвет. Вижте трите вида Евангел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i="1" lang="bg-BG" sz="3200" spc="-1" strike="noStrike" u="sng">
                <a:solidFill>
                  <a:srgbClr val="ffff00"/>
                </a:solidFill>
                <a:uFillTx/>
                <a:latin typeface="Arial"/>
              </a:rPr>
              <a:t>рос</a:t>
            </a:r>
            <a:r>
              <a:rPr b="0" lang="bg-BG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bg-BG" sz="3200" spc="-1" strike="noStrike" u="sng">
                <a:solidFill>
                  <a:srgbClr val="ffff00"/>
                </a:solidFill>
                <a:uFillTx/>
                <a:latin typeface="Arial"/>
              </a:rPr>
              <a:t>Карита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0" i="1" lang="bg-BG" sz="3200" spc="-1" strike="noStrike" u="sng">
                <a:solidFill>
                  <a:srgbClr val="ffff00"/>
                </a:solidFill>
                <a:uFillTx/>
                <a:latin typeface="Arial"/>
              </a:rPr>
              <a:t>га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3200" spc="-1" strike="noStrike">
                <a:solidFill>
                  <a:srgbClr val="ff00ff"/>
                </a:solidFill>
                <a:latin typeface="Arial"/>
              </a:rPr>
              <a:t>Бо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bg-BG" sz="3200" spc="-1" strike="noStrike">
                <a:solidFill>
                  <a:srgbClr val="ff00ff"/>
                </a:solidFill>
                <a:latin typeface="Arial"/>
              </a:rPr>
              <a:t>  Бо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bg-BG" sz="3200" spc="-1" strike="noStrike">
                <a:solidFill>
                  <a:srgbClr val="ff00ff"/>
                </a:solidFill>
                <a:latin typeface="Arial"/>
              </a:rPr>
              <a:t>Б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3200" spc="-1" strike="noStrike">
                <a:solidFill>
                  <a:srgbClr val="45c984"/>
                </a:solidFill>
                <a:latin typeface="Arial"/>
              </a:rPr>
              <a:t>Чове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bg-BG" sz="3200" spc="-1" strike="noStrike">
                <a:solidFill>
                  <a:srgbClr val="45c984"/>
                </a:solidFill>
                <a:latin typeface="Arial"/>
              </a:rPr>
              <a:t>Чове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bg-BG" sz="3200" spc="-1" strike="noStrike">
                <a:solidFill>
                  <a:srgbClr val="45c984"/>
                </a:solidFill>
                <a:latin typeface="Arial"/>
              </a:rPr>
              <a:t>Ч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 flipV="1">
            <a:off x="1143000" y="3733920"/>
            <a:ext cx="0" cy="2209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7696080" y="3733920"/>
            <a:ext cx="0" cy="2209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V="1">
            <a:off x="4343400" y="4952880"/>
            <a:ext cx="0" cy="10670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4343400" y="3657600"/>
            <a:ext cx="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Докато не са запознати с тези три различ-ни думи, описващи различните видове любов, много от Божиите деца са хванати в капана на Евангелието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Каритас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. Това е една фина форма на законниче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пасението е чрез вяра плюс 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Или спасението е по благодат плюс спазване на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 други думи, “Трябва да направя най-доброто, Христос ще направи останало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Бог осъжда изопаченото Евангелие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Каритас</a:t>
            </a: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и затова ще прогласи истинс-кото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вечно Евангелие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Галатяни 1:6-9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ветът отчаяно очаква да чуе невероят-но добрата вест на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Вечното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Евангелие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, базирано на Божията любов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Матей 24:14; Римляни 8:31-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Исус каза: “И когато Аз бъда издигнат от земята, ще привлека всички при Себе Си.”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Йоан 12:32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600" spc="-1" strike="noStrike">
                <a:solidFill>
                  <a:srgbClr val="ffff00"/>
                </a:solidFill>
                <a:latin typeface="Arial"/>
              </a:rPr>
              <a:t>Нека този ден дойде по-скоро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ff"/>
                </a:solidFill>
                <a:latin typeface="Arial"/>
              </a:rPr>
              <a:t>Божията невероятна любов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ази лекцияизучава Божията любов Агапе, която е мотива за нашето спасе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00"/>
                </a:solidFill>
                <a:latin typeface="Arial"/>
              </a:rPr>
              <a:t>Защо Бог спасява човечество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Ето някои ясни текстове, които обясняват защо Бог спасява човечеството в Христ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Йоан 3:16 - “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защото Той толкова възлюби света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000" spc="-1" strike="noStrike">
                <a:solidFill>
                  <a:srgbClr val="ffff00"/>
                </a:solidFill>
                <a:latin typeface="Arial"/>
              </a:rPr>
              <a:t>Ефесяни 2:1-4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. Защото любовта Му е изпълнена с милос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bg-BG" sz="3000" spc="-1" strike="noStrike">
                <a:solidFill>
                  <a:srgbClr val="ffff00"/>
                </a:solidFill>
                <a:latin typeface="Arial"/>
              </a:rPr>
              <a:t>Тит 3:3-5. 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Защото Бог изяви любовта Си към човечествот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000" spc="-1" strike="noStrike">
                <a:solidFill>
                  <a:srgbClr val="ffff00"/>
                </a:solidFill>
                <a:latin typeface="Arial"/>
              </a:rPr>
              <a:t>1Йоан 4:8,16. 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Защото естеството Му е люб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bg-BG" sz="3000" spc="-1" strike="noStrike">
                <a:solidFill>
                  <a:srgbClr val="ffff00"/>
                </a:solidFill>
                <a:latin typeface="Arial"/>
              </a:rPr>
              <a:t>Римляни 5:6-10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. Защото Неговата агапе любов е безусловна и несебичн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00"/>
                </a:solidFill>
                <a:latin typeface="Arial"/>
              </a:rPr>
              <a:t>Лингвистичният пробле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Нашите съвременни езици (английски, испански, френски, немски и др.) са ограничени в изразяването на любовта. Имаме само една дума, която да я изрази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Новозаветният гръцки има най-малко 4 думи, които изразяват любовт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Сторге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мейна любов (кръвна връз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Филео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 Чувствена любов между прия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Ерос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Човешка любов към Бога (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ебесен Еро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Агапе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Новозаветна дума за Божията лю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Тъй като нашите съвременни езици имат само една дума за любов, ние сме склонни да проектираме човешките идеи за любов към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И така не можем да разберем истинското значение на Божията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любов и като последица, разбираме погрешно Благовестие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Ето един пример за лингвистичен проблем от английската Библия: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Йоан 21:15-1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Arial"/>
              </a:rPr>
              <a:t>Разликата между човешката </a:t>
            </a:r>
            <a:r>
              <a:rPr b="0" i="1" lang="bg-BG" sz="3600" spc="-1" strike="noStrike">
                <a:solidFill>
                  <a:srgbClr val="ffff00"/>
                </a:solidFill>
                <a:latin typeface="Arial"/>
              </a:rPr>
              <a:t>Ерос</a:t>
            </a:r>
            <a:r>
              <a:rPr b="0" lang="bg-BG" sz="3600" spc="-1" strike="noStrike">
                <a:solidFill>
                  <a:srgbClr val="ffff00"/>
                </a:solidFill>
                <a:latin typeface="Arial"/>
              </a:rPr>
              <a:t> любов и Божията любов</a:t>
            </a:r>
            <a:r>
              <a:rPr b="0" i="1" lang="bg-BG" sz="3600" spc="-1" strike="noStrike">
                <a:solidFill>
                  <a:srgbClr val="ffff00"/>
                </a:solidFill>
                <a:latin typeface="Arial"/>
              </a:rPr>
              <a:t> Агап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1.Човешката любов</a:t>
            </a:r>
            <a:r>
              <a:rPr b="0" i="1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bg-BG" sz="2800" spc="-1" strike="noStrike">
                <a:solidFill>
                  <a:srgbClr val="ffff00"/>
                </a:solidFill>
                <a:latin typeface="Arial"/>
              </a:rPr>
              <a:t>Ерос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е условна. Тя зависи от добротата и красотата на личността, която да обичаме. 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Матей 5:43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Затова обичаме само приятелите си и онези, които ни обичат. Не сме способни да обича-ме враговете с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1.Божията любов </a:t>
            </a:r>
            <a:r>
              <a:rPr b="0" i="1" lang="bg-BG" sz="2800" spc="-1" strike="noStrike">
                <a:solidFill>
                  <a:srgbClr val="ffff00"/>
                </a:solidFill>
                <a:latin typeface="Arial"/>
              </a:rPr>
              <a:t>Агапе </a:t>
            </a:r>
            <a:r>
              <a:rPr b="0" i="1" lang="bg-BG" sz="28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безуслов-на. Тя е спонтанна и непредизвикана. Тя не зависи от нашата доброта. Затова Бог може да обича грешници и дори Своите врагове.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Римляни 5:6-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380880" y="1600200"/>
            <a:ext cx="8229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4572000" y="1600200"/>
            <a:ext cx="0" cy="5029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380880" y="1600200"/>
            <a:ext cx="0" cy="5029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 flipH="1">
            <a:off x="8534160" y="1600200"/>
            <a:ext cx="75960" cy="5029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380880" y="6629400"/>
            <a:ext cx="815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2.Човешката любов </a:t>
            </a:r>
            <a:r>
              <a:rPr b="0" i="1" lang="bg-BG" sz="2800" spc="-1" strike="noStrike">
                <a:solidFill>
                  <a:srgbClr val="ffff00"/>
                </a:solidFill>
                <a:latin typeface="Arial"/>
              </a:rPr>
              <a:t>Ерос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е променлива. Затова е несигурна. Петър е добър пример за това.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Лука 22:31-34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ейтингът на разводите в САЩ и другите страни е доказателство за този фак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23920" y="380880"/>
            <a:ext cx="40388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 контраст Божията любов </a:t>
            </a:r>
            <a:r>
              <a:rPr b="0" i="1" lang="bg-BG" sz="28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i="1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е вечна. Ето защо никога няма да ностъпи ден, когата Бог ще спре да ни обича.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Еремия 31: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я е опората за нашите души във време на безпокойство и беда.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Йоан 13:1; Римляни 8:35-39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380880" y="304920"/>
            <a:ext cx="8610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80880" y="304920"/>
            <a:ext cx="0" cy="6248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 flipH="1">
            <a:off x="8915400" y="304920"/>
            <a:ext cx="76320" cy="6248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380880" y="6553080"/>
            <a:ext cx="8534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-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380880"/>
            <a:ext cx="41907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Човешката </a:t>
            </a:r>
            <a:r>
              <a:rPr b="0" i="1" lang="bg-BG" sz="2800" spc="-1" strike="noStrike">
                <a:solidFill>
                  <a:srgbClr val="ffff00"/>
                </a:solidFill>
                <a:latin typeface="Arial"/>
              </a:rPr>
              <a:t>Ерос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любов търси своето. Затова винаги иска да се издигне в общество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бразовение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кономик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литиката и дори      в религия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ова сме всички ние по ест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Исая 53: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Филипяни 2:2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0600" y="380520"/>
            <a:ext cx="41911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Божията любов </a:t>
            </a:r>
            <a:r>
              <a:rPr b="0" i="1" lang="bg-BG" sz="28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i="1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е напълно противоположна. Затова Бог пожела да слезе надолу в полза на другите, дори и на Своите врагове.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Филипяни 2:6-8; Римляни 5:7,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ова беше великата изявява на любовта </a:t>
            </a:r>
            <a:r>
              <a:rPr b="0" i="1" lang="bg-BG" sz="28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на кръста на Христос.                   </a:t>
            </a:r>
            <a:r>
              <a:rPr b="0" lang="bg-BG" sz="2800" spc="-1" strike="noStrike">
                <a:solidFill>
                  <a:srgbClr val="ffff00"/>
                </a:solidFill>
                <a:latin typeface="Arial"/>
              </a:rPr>
              <a:t>2 Коринтяни 8: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228600" y="228600"/>
            <a:ext cx="8763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>
            <a:off x="4647960" y="228600"/>
            <a:ext cx="75960" cy="64771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228600" y="228600"/>
            <a:ext cx="0" cy="6477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8991720" y="228600"/>
            <a:ext cx="0" cy="6477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228600" y="6705720"/>
            <a:ext cx="8763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атана мрази Божията любов</a:t>
            </a: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bg-BG" sz="32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, която е обратното на себелюбието.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Исая 14:12-1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Това е сърцевината на Великата Борба между Христос и Сатан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Това е </a:t>
            </a:r>
            <a:r>
              <a:rPr b="0" i="1" lang="bg-BG" sz="3600" spc="-1" strike="noStrike">
                <a:solidFill>
                  <a:srgbClr val="ffff00"/>
                </a:solidFill>
                <a:latin typeface="Arial"/>
              </a:rPr>
              <a:t>Конфликтът на вековете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 от самото зараждане на християнството Сатана върши своето най-добро дело да обвие Божията любов</a:t>
            </a:r>
            <a:r>
              <a:rPr b="0" i="1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bg-BG" sz="3600" spc="-1" strike="noStrike">
                <a:solidFill>
                  <a:srgbClr val="ffff00"/>
                </a:solidFill>
                <a:latin typeface="Arial"/>
              </a:rPr>
              <a:t>Агапе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 в тъмнин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0:10:37Z</dcterms:created>
  <dc:creator>Our Divine Adoption</dc:creator>
  <dc:description/>
  <dc:language>en-US</dc:language>
  <cp:lastModifiedBy>Petar</cp:lastModifiedBy>
  <dcterms:modified xsi:type="dcterms:W3CDTF">2010-09-30T14:56:37Z</dcterms:modified>
  <cp:revision>163</cp:revision>
  <dc:subject/>
  <dc:title>Slide 1</dc:title>
</cp:coreProperties>
</file>