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DC7-B36F-401F-BC1E-417A91AE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1AA1-EF4A-44B4-A384-0FBFBE2C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768-C942-470C-B05D-6C288447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F07-DBB1-4CB0-855E-CBB4D9E1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4101-4E32-4431-A4AF-D3109C03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C29E-3B0E-4E97-B168-25D70571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D769-1885-479C-B018-F163BA9D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97C0-56FD-425A-BD62-952002F2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1CBF-E7F4-493E-8651-A8A6A2CB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2100-C071-432E-BE50-F871A64F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BADD-A8A1-4E2B-8910-856278DA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010-AA10-4FBB-A175-E74195DB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9E59-7F81-494B-B274-3666A75A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4885-4061-4A37-BCBD-3D72AA04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282F-ADE4-43ED-8049-4FCCA0EB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DD63-5F21-46AE-B493-D824A440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0914-3773-4EC1-8716-8878AE6C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0EF-A13C-4EFC-B5A9-B7B8A225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3E4-C402-4458-A353-7E671164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7D6-820D-4D3F-A87A-76B78285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639A-C7D3-4814-B1AD-9ED7AD84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B2B-84EA-4178-9CC9-D9B6ED30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F0C-F3B8-40E0-A004-EF1C52A4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329-634C-4C12-A364-3752336A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925F-EE0E-4958-9846-15905C2F8D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75CD-88B9-4D87-A5FE-71A60E4D638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26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Връзките между двете измерения на спасението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Истинската християнска опитност се основава на обективните факти на Евангелието – въплъщението, святия живот, смъртта и възкресението на Исус Христос – І Кор.3:11-13;  Ето защ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Ако познанието ни е непълно, такава ще бъде и нашата опитнос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Ако познанието ни е некоректно, такава ще бъде и нашата опитнос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то защо е изключително важно християните ясно да разберат истината, такава каквато е в Христос - обективните факти на Евангелието - Неговото въплъщение, святия Му живот, себепожертвувателната Му смърт и възкрес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Това е основата за успешна християнска опитно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ус заяви ясно, че само когато познаем истината, такава каквато е в Него, ще бъдем свободни да се възползва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м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т цялата мощ на Евангелието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Йоан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8:32, 3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ка това да е вярно за всички Н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00"/>
                </a:solidFill>
                <a:latin typeface="Arial"/>
              </a:rPr>
              <a:t>Двете измерения</a:t>
            </a:r>
            <a:br>
              <a:rPr sz="7200"/>
            </a:br>
            <a:r>
              <a:rPr b="0" lang="bg-BG" sz="7200" spc="-1" strike="noStrike">
                <a:solidFill>
                  <a:srgbClr val="ffff00"/>
                </a:solidFill>
                <a:latin typeface="Arial"/>
              </a:rPr>
              <a:t>на спасението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80880" y="3352680"/>
            <a:ext cx="83822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04920" y="3652920"/>
            <a:ext cx="815328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Целта на тази лекция е да покаже разликата между </a:t>
            </a:r>
            <a:r>
              <a:rPr b="0" lang="bg-BG" sz="4800" spc="-1" strike="noStrike">
                <a:solidFill>
                  <a:srgbClr val="ffff00"/>
                </a:solidFill>
                <a:latin typeface="Tahoma"/>
              </a:rPr>
              <a:t>обективните</a:t>
            </a: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 факти и </a:t>
            </a:r>
            <a:r>
              <a:rPr b="0" lang="bg-BG" sz="4800" spc="-1" strike="noStrike">
                <a:solidFill>
                  <a:srgbClr val="ffff00"/>
                </a:solidFill>
                <a:latin typeface="Tahoma"/>
              </a:rPr>
              <a:t>субективното</a:t>
            </a: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 преживяване на спасение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00"/>
                </a:solidFill>
                <a:latin typeface="Arial"/>
              </a:rPr>
              <a:t>Проблемът на християнит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Главната причина много християни да не са уверени в спасението си е, че не са успели да видят </a:t>
            </a:r>
            <a:r>
              <a:rPr b="0" i="1" lang="bg-BG" sz="2800" spc="-1" strike="noStrike">
                <a:solidFill>
                  <a:srgbClr val="ffffff"/>
                </a:solidFill>
                <a:latin typeface="Arial"/>
              </a:rPr>
              <a:t>разликата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между  Евангелието и неговото </a:t>
            </a:r>
            <a:r>
              <a:rPr b="0" i="1" lang="bg-BG" sz="2800" spc="-1" strike="noStrike">
                <a:solidFill>
                  <a:srgbClr val="ffffff"/>
                </a:solidFill>
                <a:latin typeface="Arial"/>
              </a:rPr>
              <a:t>преживяване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. За тях двете неща са едно и също.–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Не е вярно, че принципите на християнския живот са Евангелието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Това е голям проблем, който ограбва вярващите от радостта и мира на спасениет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bg-BG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В резултат  на това те не могат да станат успешни свидетели на добрата вест на Евангелие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00"/>
                </a:solidFill>
                <a:latin typeface="Arial"/>
              </a:rPr>
              <a:t>Двете измерения на спасението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блията говори за две измерения на спасението, които са свързани,но все пак различ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една страна, тя говори за спасението като вече извършен факт чрез раждането, живота, смъртта и възкресението на нашия Господ Исус Христос. 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Йоан 3:17; 17:04; 19:3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ва са обективните факти на невероятната добра новина на Евангелието.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ука 2: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От друга страна, Писанието говори за спасението като субективно преживяване на онези, които са приели Христос чрез вяра като свой личен Спасител.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Йоан 3:16; 5: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За да се избегне объркването между обективните факти на спасението и неговото субективно преживяване, всеки трябва да разбере разликата между двете измерения на спасение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В противен случай, Благата вест става по-скоро 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добър съвет</a:t>
            </a:r>
            <a:r>
              <a:rPr b="0" i="1" lang="bg-BG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отколкото 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добра вест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. По този начин сатана е ограбил вярващите от мира и радостта на спасение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839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Arial"/>
              </a:rPr>
              <a:t>Разликата между обективното Евангелие и субективното преживяване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ffff"/>
                </a:solidFill>
                <a:latin typeface="Arial"/>
              </a:rPr>
              <a:t>Оправданието е универсално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Включва целия човешки род. Никой не е изключен.           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! Тимотей 2:5-7; Тит 2:11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(два от многото универсални текст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ffff"/>
                </a:solidFill>
                <a:latin typeface="Arial"/>
              </a:rPr>
              <a:t>Освещението е персонално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Евангелието е Божия върховен дар за човечеството, който трябва да бъде приет лично. 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Йоан 3:16,18,36; Марк 16:15,16; Римляни 5: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4419360" y="1600200"/>
            <a:ext cx="75960" cy="5029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52280" y="1600200"/>
            <a:ext cx="8839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52280" y="160020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8991720" y="160020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152280" y="6629400"/>
            <a:ext cx="8839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396252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Оправданието е напълно завършено де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Към него ние не можем да прибавим абсолютно нищо.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Римляни 10:3,4; Колосяни 2: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0" y="1066680"/>
            <a:ext cx="45720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Опитността ни в освещението е продължителен процес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Вярващите израстват в Христос до славното Му пришествие.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Римляни 8:24,25; Филипяни 3:20,21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4495680" y="914400"/>
            <a:ext cx="0" cy="5486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304920" y="914400"/>
            <a:ext cx="8686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304920" y="6400800"/>
            <a:ext cx="8686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304920" y="914400"/>
            <a:ext cx="0" cy="548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8991720" y="914400"/>
            <a:ext cx="0" cy="548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1920" y="380520"/>
            <a:ext cx="4343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Оправданието е безусловно добра вес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пасени сме единствено по благодат (незаслужена милост) без делата на закона или добри дела.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Римляни 3:28; 4:5; 5:6-10; Еф. 2:1-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380880"/>
            <a:ext cx="4343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пасението е условно в три фаз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правданието е чрез вяра. 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Римляни 5: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свещението е чрез ходене в Духа. 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Галатяни 5: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и прославянето вярата трябва да издържи докрай. 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Евреем 10:38,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1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4495680" y="304920"/>
            <a:ext cx="0" cy="6172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152280" y="304920"/>
            <a:ext cx="8839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152280" y="304920"/>
            <a:ext cx="0" cy="6172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8991720" y="304920"/>
            <a:ext cx="0" cy="6172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4038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Оправданието дава награда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То квалифицира вярващите за небето сега и в последния съд.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Йоан 5:24; Римляни 8:1; 1Йоан 4:16-1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876920" y="380880"/>
            <a:ext cx="40384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Освещението свидетел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Това е даване доказателство за нашето спасение пред невярващите.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Йоан 13:34,35; Ефесяни 2:10; Тит 3: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228600" y="228600"/>
            <a:ext cx="8763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4648320" y="228600"/>
            <a:ext cx="0" cy="6172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228600" y="6400800"/>
            <a:ext cx="8763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228600" y="228600"/>
            <a:ext cx="0" cy="6172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8991720" y="228600"/>
            <a:ext cx="0" cy="6172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16:30:59Z</dcterms:created>
  <dc:creator>Our Divine Adoption</dc:creator>
  <dc:description/>
  <dc:language>en-US</dc:language>
  <cp:lastModifiedBy>Peter</cp:lastModifiedBy>
  <dcterms:modified xsi:type="dcterms:W3CDTF">2010-10-03T14:23:56Z</dcterms:modified>
  <cp:revision>182</cp:revision>
  <dc:subject/>
  <dc:title>THE TWO DIMENSIONS  OF SALVATION</dc:title>
</cp:coreProperties>
</file>