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049F-2441-44FE-8017-FDD65D1D8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D44F-248D-43EF-8707-8DC494B29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ully appreciate the incredible good news of the Gospel, our redemption in Christ, we must first come to grips with our sin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tarting point to fully understand and appreciate the good news of the Gosp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E2D-EA50-4E82-8D5F-FD4F2870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A5D-604C-4542-8A0E-7EC0202F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96A-D171-44C0-B663-391EFC11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480-D0F0-4FFB-BC7B-8ED0FA6A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0CBF-2EDE-47FE-A35B-BE0FD24B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EBE8-5E04-49E8-8453-3894C984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7649-87E7-436F-B361-41C8FB26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9203-5FB5-4E3D-8F92-AA4D4641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FA3D-8872-458B-90FD-4A95CCC6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4AE2-6C3E-4840-BC1A-4E8F6BB7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B6A6-31F4-4BEE-87A7-08C9EEEC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12F-7F9A-459B-8709-ECFDA128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97F1-A670-40A4-992C-254267BB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DA1F-8339-4E83-ABC0-33FA800D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EBFD-79E5-41A5-93CB-90F379A7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1F60-402D-45FC-972E-12ED9903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B664-59E0-47AE-B019-27C4F7CB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75D-54C7-42AA-B133-30EC84E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B88-2BA3-47BC-A221-95839A38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2F3-766F-4F62-9DA1-48CA27C9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A3A-2C9E-4FBC-BEC9-218F9E9D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0AF-14FE-4227-A962-87CE5C9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C53-97E3-4D05-ADAD-21D4A2F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4B8-DB73-45B9-BEED-FC03B1A4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9AA0-7C8D-49B1-A032-394D56E1F2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E8CA-7EB3-4609-96EA-D47A544CD7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41144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52280" y="3994200"/>
            <a:ext cx="883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ahoma"/>
              </a:rPr>
              <a:t>Тази лекция обяснява защо всеки се нуждае от Спасите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04920" y="304920"/>
            <a:ext cx="80769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ниверсалния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блем грях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2. Животът му, който беше условно безсмъртен, попадна под осъждането на  закона и получи смъртна присъда –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Битие 2:16,1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3. Естеството на живота му се промени  от несебичен в себичен, това е принципът на всеки грях –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Битие 3:12,13; Исая 53:6; Филипяни 2: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4. Накрая животът му бе пнапълно подчинен на Сатана, който стана князът на този свят- </a:t>
            </a:r>
            <a:r>
              <a:rPr b="0" lang="bg-BG" sz="3200" spc="-1" strike="noStrike">
                <a:solidFill>
                  <a:srgbClr val="ffff00"/>
                </a:solidFill>
                <a:latin typeface="Arial"/>
              </a:rPr>
              <a:t>Лука 4:5,6; Йоан 14: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Тъй като ние продължаваме адамовия живот, в момента, в който се раждаме на този свят, получаваме или наследяваме гореспоменатите четири последици от адамовия съсипан жив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Еврейският Стар Завет употребява 12 различни думи, за да дефинира проблема грях, докато гръцкият Нов Завет използва п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огато поставим тези пет думи заедно Библията представя осем категории гр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8394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Умишлено действие срещу Божия закон. Гръцката дума “беззаконие”, избор да живееш живот в грях -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1Йоан 3: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Умствено съгласие с изкушението, въпреки че грехът не е извършен. Грехът пожелание 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Римляни 7:7-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Отхвърляне на осъзнати задължения и възможности 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Яков 4:1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Вършене неправилни неща от незнание 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Левит 5:17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Вършене добри дела или спазване на закона, с неправилна мотивация 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Матей 7:22,2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Тези първи пет дефиниции на думата грях засягат поведението ни, мисли, желания, мотиви или действия. Новият Завет описва тези грехове с глагола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(харматано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Следващите два гряха засягат нашето естество или състояние, наследено от Адам. Новият Завет ги описва със съществително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(гр.</a:t>
            </a:r>
            <a:r>
              <a:rPr b="0" i="1" lang="bg-BG" sz="3200" spc="-1" strike="noStrike">
                <a:solidFill>
                  <a:srgbClr val="ffff00"/>
                </a:solidFill>
                <a:latin typeface="Tahoma"/>
              </a:rPr>
              <a:t> харматиа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Грешното ни естество наследено от Адам след грехопадението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Псалм 51:5; 58:3; Римляни 3:19,2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7. Закон на една постоянна сила, която доминира във всяка част от нашето тяло. Това ни прави роби на греха или себичността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Римляни 7:14-2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Гореизредените седем дефиниции грях попадат в три основни категор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ЕСТЕСТВО (грешна плът) – </a:t>
            </a:r>
            <a:r>
              <a:rPr b="0" lang="bg-BG" sz="2800" spc="-1" strike="noStrike">
                <a:solidFill>
                  <a:srgbClr val="ffff00"/>
                </a:solidFill>
                <a:latin typeface="Tahoma"/>
              </a:rPr>
              <a:t>Римляни 7: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УМ (пожелания и мотиви) – </a:t>
            </a:r>
            <a:r>
              <a:rPr b="0" lang="bg-BG" sz="2800" spc="-1" strike="noStrike">
                <a:solidFill>
                  <a:srgbClr val="ffff00"/>
                </a:solidFill>
                <a:latin typeface="Tahoma"/>
              </a:rPr>
              <a:t>Римляни 7:7,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ПРЕДСТАВЯНЕ (погрешни действия) </a:t>
            </a: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2800" spc="-1" strike="noStrike">
                <a:solidFill>
                  <a:srgbClr val="ffff00"/>
                </a:solidFill>
                <a:latin typeface="Tahoma"/>
              </a:rPr>
              <a:t>Галатяни 5:19-21</a:t>
            </a: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Божият закон осъжда тези три категории грях или всяка една от т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Затова единствената надежда на всеки човек е в спасителната благодат на нашия Господ Исус Христ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8. Има още един грях, осмият, за който Христос не е умрял. Той е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непростимият грях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или грехът срещу благодат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Това е съзнателно, постоянно и решително отхвърляне на дара на спасението в лицето на Исус Христос – грехът на неверието 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Йоан 3:18, 36; Марк 16:15,1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Христос нарече този грях, грях срещу Светия Дух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Матей 12:30-3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Светият Дух е който убеждава светът за три неща, три факта: грях, правда и съдба 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Йоан</a:t>
            </a:r>
            <a:r>
              <a:rPr b="0" lang="bg-BG" sz="2800" spc="-1" strike="noStrike">
                <a:solidFill>
                  <a:srgbClr val="ffff00"/>
                </a:solidFill>
                <a:latin typeface="Tahoma"/>
              </a:rPr>
              <a:t> 16:8-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Грехът на неверие в Евангелието е единствената причина някой да е изгубен за небето 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Йоан 3:18; Марк 16:15,16; Евреем 2:1-4; 3:16-19; 10:26-29, 35-3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Запознавайки се с реалността на универсалния проблем грях, ще изгубим доверието в себе си и с благодарни сърца ще приемем  върховния дар на спасението в Христос 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Филипяни 3:3-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И така, когато добрата вест на Евангелието се прокламира по целия свят за свидетелство, в контекста на универсалния проблем грях, няма да има извинение за никой, който  ще бъде изгубен. Тогава ще дойде краят –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Матей 24: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Нека този ден дойде по-скор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4572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Дълбоко в сърцето на всеки човек е залегнало желанието да бъде добъ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но в действителност всички се проваляме в постигането на тази це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Затова в нашият свят цари такава ужасна бъркот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Всяко човешко усилие да разреши проблема “грях” пропада.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Защ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04920" y="36504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Проблемът е, че човечството се провали в овладяването на проблема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грях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Обикновено ние гледаме на греха като поведение. На той е нещо повече от то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В тази лекция ще разберем какво казва Библията относно проблема грях и защо се нуждаем от Спасите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Когато Христос дойде на тази земя преди 2000 години, Той дойде, за да бъде Божието разрешение на проблема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грях –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Йоан 1:2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14400" y="3505320"/>
            <a:ext cx="777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От всички Библейски писатели никой не е разбрал по-добре проблема грях от апостол Павел –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І Тимотей 1: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05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Ето защо, обяснявайки добрата вест на Евангелието, апостол Павел започва с </a:t>
            </a:r>
            <a:r>
              <a:rPr b="0" lang="bg-BG" sz="4000" spc="-1" strike="noStrike" u="sng">
                <a:solidFill>
                  <a:srgbClr val="ffff00"/>
                </a:solidFill>
                <a:uFillTx/>
                <a:latin typeface="Tahoma"/>
              </a:rPr>
              <a:t>универсалния проблем гря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Целта му е да унищожи доверието в собствното ни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 “АЗ”, 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тъй като формулата на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Евангелието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i="1" lang="bg-BG" sz="4000" spc="-1" strike="noStrike">
                <a:solidFill>
                  <a:srgbClr val="ffff00"/>
                </a:solidFill>
                <a:latin typeface="Tahoma"/>
              </a:rPr>
              <a:t>не аз, но Христос”</a:t>
            </a:r>
            <a:r>
              <a:rPr b="0" i="1" lang="bg-BG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bg-BG" sz="4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Филипяни 3:3-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09480" y="53352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В посланието към римляните “най-ясното благовестие” апостол Павел започва с универсалния пролем грях –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Римляни 1:18-3:2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66680" y="4495680"/>
            <a:ext cx="746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Забележете заключението м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Римляни 3:9-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Бог създаде Адам по Свой образ и подобие. Той притежаваше несебична люб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Битие 1:26; Коринтяни 13:4-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42670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Това беше също и корпоративният живот на целия човешки ро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00"/>
                </a:solidFill>
                <a:latin typeface="Tahoma"/>
              </a:rPr>
              <a:t>Битие 5:1,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838080" y="152280"/>
            <a:ext cx="769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Tahoma"/>
              </a:rPr>
              <a:t>Божието разрешение на проблема гря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Защото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ог не създава всеки път нов живот, когато бебето се р</a:t>
            </a: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ажд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914400" y="32320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880" y="35510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секи един от нас е продължение на A</a:t>
            </a:r>
            <a:r>
              <a:rPr b="0" lang="bg-BG" sz="4400" spc="-1" strike="noStrike">
                <a:solidFill>
                  <a:srgbClr val="ffffff"/>
                </a:solidFill>
                <a:latin typeface="Tahoma"/>
              </a:rPr>
              <a:t>дамовия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живот.</a:t>
            </a:r>
            <a:br>
              <a:rPr sz="4400"/>
            </a:br>
            <a:r>
              <a:rPr b="0" lang="bg-BG" sz="4400" spc="-1" strike="noStrike">
                <a:solidFill>
                  <a:srgbClr val="ffff00"/>
                </a:solidFill>
                <a:latin typeface="Tahoma"/>
              </a:rPr>
              <a:t>Деяния на апостолите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17:26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За нещастие, Адам даде живот на своите наследници  след грехопадението. Това беше един съсипан жив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Адамовият грях засегна и духовния му живот най-малко по четири начина (т.е. освен физическите последици – предразположение към умора, болести и смърт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1. Тъй като адамовият грях беше обръщане гръб на Бога (Битие 3:19-подразбира се), Светият Дух го напусна и животът му потъна в духовна тъм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02:52:37Z</dcterms:created>
  <dc:creator>Our Divine Adoption</dc:creator>
  <dc:description/>
  <dc:language>en-US</dc:language>
  <cp:lastModifiedBy>Petar</cp:lastModifiedBy>
  <dcterms:modified xsi:type="dcterms:W3CDTF">2010-09-29T11:38:29Z</dcterms:modified>
  <cp:revision>162</cp:revision>
  <dc:subject/>
  <dc:title>The Biblical Definition of Sin</dc:title>
</cp:coreProperties>
</file>