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2DC-032F-4440-80B6-C1AFADC2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8CF-DDB3-4BD0-8D6C-D5194F53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A3A-384F-4805-8879-BF15E927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9A4-5AF3-409B-8F06-926563CA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8DF-5E1A-40E8-9A22-36D56387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BBF-AD1B-4D99-A9BD-BF1841E4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0C4-6145-48E8-9087-72B0AF36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416-1BB8-4F14-A202-91556D46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382-6F03-4DF0-8661-B260FF8E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295-573A-4BAD-A954-EFB1F41F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DC3-CF6F-4738-B49F-54B4ABD4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5F2-EC53-46AD-8329-C22F3EA2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2E42-C396-497A-B7C8-8A0C23BBBCAF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tna-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etna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tna-11" descr=""/>
          <p:cNvPicPr/>
          <p:nvPr/>
        </p:nvPicPr>
        <p:blipFill>
          <a:blip r:embed="rId1"/>
          <a:stretch/>
        </p:blipFill>
        <p:spPr>
          <a:xfrm>
            <a:off x="0" y="20016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etna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tna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tna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tna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tna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etna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tna-18" descr=""/>
          <p:cNvPicPr/>
          <p:nvPr/>
        </p:nvPicPr>
        <p:blipFill>
          <a:blip r:embed="rId1"/>
          <a:stretch/>
        </p:blipFill>
        <p:spPr>
          <a:xfrm>
            <a:off x="1276200" y="0"/>
            <a:ext cx="659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etna-19" descr=""/>
          <p:cNvPicPr/>
          <p:nvPr/>
        </p:nvPicPr>
        <p:blipFill>
          <a:blip r:embed="rId1"/>
          <a:stretch/>
        </p:blipFill>
        <p:spPr>
          <a:xfrm>
            <a:off x="0" y="-162000"/>
            <a:ext cx="9144000" cy="70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tna-2" descr=""/>
          <p:cNvPicPr/>
          <p:nvPr/>
        </p:nvPicPr>
        <p:blipFill>
          <a:blip r:embed="rId1"/>
          <a:stretch/>
        </p:blipFill>
        <p:spPr>
          <a:xfrm>
            <a:off x="2328840" y="0"/>
            <a:ext cx="448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etna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etna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tna-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tna-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etna-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trom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trom-2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trom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trom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trom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tna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trom-7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tna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etna-5" descr=""/>
          <p:cNvPicPr/>
          <p:nvPr/>
        </p:nvPicPr>
        <p:blipFill>
          <a:blip r:embed="rId1"/>
          <a:stretch/>
        </p:blipFill>
        <p:spPr>
          <a:xfrm>
            <a:off x="2317680" y="0"/>
            <a:ext cx="45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tna-6" descr="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etna-7" descr=""/>
          <p:cNvPicPr/>
          <p:nvPr/>
        </p:nvPicPr>
        <p:blipFill>
          <a:blip r:embed="rId1"/>
          <a:stretch/>
        </p:blipFill>
        <p:spPr>
          <a:xfrm>
            <a:off x="2108160" y="0"/>
            <a:ext cx="492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tna-8" descr=""/>
          <p:cNvPicPr/>
          <p:nvPr/>
        </p:nvPicPr>
        <p:blipFill>
          <a:blip r:embed="rId1"/>
          <a:stretch/>
        </p:blipFill>
        <p:spPr>
          <a:xfrm>
            <a:off x="1440000" y="0"/>
            <a:ext cx="626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tna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2:33:06Z</dcterms:created>
  <dc:creator>Nobody</dc:creator>
  <dc:description/>
  <dc:language>en-US</dc:language>
  <cp:lastModifiedBy>EBIS306</cp:lastModifiedBy>
  <dcterms:modified xsi:type="dcterms:W3CDTF">2006-04-05T14:01:28Z</dcterms:modified>
  <cp:revision>10</cp:revision>
  <dc:subject/>
  <dc:title>הרי געש</dc:title>
</cp:coreProperties>
</file>