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RogerWilliams-ClairDeLune(654)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B8DB-ED5E-4E2E-99EC-70D0C4028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40A5-2EB3-4318-8AF8-74D857D9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C30E-04CA-4ACF-B556-836276A42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D5C3-A5FB-455D-9384-F6980010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9627-692C-485A-8487-7B42C6EA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D6F1-DBEC-40E0-8CC7-D353E9A4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D995-7AE4-4DE5-82D8-90C85A65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4DAA-1C82-489A-A365-DFC641D0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01C1-AEC7-4F13-B136-0BC204EA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BB63-59BA-4F1F-B069-B5134C6C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C186-B680-4F98-8058-5477C68E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837A-9F49-4067-B05A-FF14AA1B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87C0-13D8-4B42-B3F5-9D66491CE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ogerWilliams-ClairDeLune(654)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619360" y="685800"/>
            <a:ext cx="38577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Britannic Bold"/>
              </a:rPr>
              <a:t>Three</a:t>
            </a:r>
            <a:endParaRPr b="1" lang="en-US" sz="6600" spc="1" strike="noStrike">
              <a:ln w="324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Britannic Bold"/>
              </a:rPr>
              <a:t>Things</a:t>
            </a:r>
            <a:endParaRPr b="1" lang="en-US" sz="6600" spc="1" strike="noStrike">
              <a:ln w="324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Britannic Bold"/>
              <a:ea typeface="Britannic Bold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62560"/>
            <a:ext cx="914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Text, and graphics, introduced automatically with start of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943600"/>
            <a:ext cx="914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Click mouse, or touch space bar, to advance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958000"/>
            <a:ext cx="914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Verdana"/>
              </a:rPr>
              <a:t>Click mouse, or touch space bar, to advance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>
            <a:grayscl/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6320" y="838080"/>
            <a:ext cx="8915400" cy="436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ritannic Bold"/>
              </a:rPr>
              <a:t>Why don’t you consider passing this along to those whom you would                  like God to bl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ritannic Bold"/>
              </a:rPr>
              <a:t>I Just Did!</a:t>
            </a:r>
            <a:r>
              <a:rPr b="0" lang="en-US" sz="2800" spc="-1" strike="noStrike">
                <a:solidFill>
                  <a:srgbClr val="ffffcc"/>
                </a:solidFill>
                <a:latin typeface="Britannic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84000" y="5470560"/>
            <a:ext cx="2099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ritannic Bold"/>
              </a:rPr>
              <a:t>Fletc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320" y="5181480"/>
            <a:ext cx="906768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ff"/>
                </a:solidFill>
                <a:latin typeface="Britannic Bold"/>
              </a:rPr>
              <a:t>To end program,                                                           click mouse or touch space b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92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2836"/>
                            </p:stCondLst>
                            <p:childTnLst>
                              <p:par>
                                <p:cTn id="251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836"/>
                            </p:stCondLst>
                            <p:childTnLst>
                              <p:par>
                                <p:cTn id="258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8836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grayscl/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320" y="684360"/>
            <a:ext cx="8915400" cy="606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ritannic Bold"/>
              </a:rPr>
              <a:t>Three things in life that, once gone, never come bac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Britannic Bold"/>
              </a:rPr>
              <a:t>Ti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Britannic Bold"/>
              </a:rPr>
              <a:t>W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Britannic Bold"/>
              </a:rPr>
              <a:t>Opportun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19960" y="6324480"/>
            <a:ext cx="519120" cy="409680"/>
          </a:xfrm>
          <a:prstGeom prst="rightArrow">
            <a:avLst>
              <a:gd name="adj1" fmla="val 50000"/>
              <a:gd name="adj2" fmla="val 316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102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402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702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2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320" y="685800"/>
            <a:ext cx="8915400" cy="55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Three things in life that one should always h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Verdana"/>
              </a:rPr>
              <a:t>Hop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Verdana"/>
              </a:rPr>
              <a:t>Pea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Verdana"/>
              </a:rPr>
              <a:t>Hones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19960" y="6324480"/>
            <a:ext cx="519120" cy="409680"/>
          </a:xfrm>
          <a:prstGeom prst="rightArrow">
            <a:avLst>
              <a:gd name="adj1" fmla="val 50000"/>
              <a:gd name="adj2" fmla="val 316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2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32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62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92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grayscl/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6320" y="685800"/>
            <a:ext cx="8915400" cy="564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ritannic Bold"/>
              </a:rPr>
              <a:t>Three things in life that are most valu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Britannic Bold"/>
              </a:rPr>
              <a:t>Lo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Britannic Bold"/>
              </a:rPr>
              <a:t>Frien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Britannic Bold"/>
              </a:rPr>
              <a:t>Self-Confid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19960" y="6324480"/>
            <a:ext cx="519120" cy="409680"/>
          </a:xfrm>
          <a:prstGeom prst="rightArrow">
            <a:avLst>
              <a:gd name="adj1" fmla="val 50000"/>
              <a:gd name="adj2" fmla="val 316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988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288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88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888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52280" y="762120"/>
            <a:ext cx="8915400" cy="564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ritannic Bold"/>
              </a:rPr>
              <a:t>Three things in life that are never certa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Britannic Bold"/>
              </a:rPr>
              <a:t>Succ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Britannic Bold"/>
              </a:rPr>
              <a:t>Dream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Britannic Bold"/>
              </a:rPr>
              <a:t>Fortu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19960" y="6324480"/>
            <a:ext cx="519120" cy="409680"/>
          </a:xfrm>
          <a:prstGeom prst="rightArrow">
            <a:avLst>
              <a:gd name="adj1" fmla="val 50000"/>
              <a:gd name="adj2" fmla="val 316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988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288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88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888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320" y="684360"/>
            <a:ext cx="8915400" cy="564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ritannic Bold"/>
              </a:rPr>
              <a:t>Three things in life that make a good per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Britannic Bold"/>
              </a:rPr>
              <a:t>Sincer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Britannic Bold"/>
              </a:rPr>
              <a:t>Hard Wor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Britannic Bold"/>
              </a:rPr>
              <a:t>Compas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19960" y="6324480"/>
            <a:ext cx="519120" cy="409680"/>
          </a:xfrm>
          <a:prstGeom prst="rightArrow">
            <a:avLst>
              <a:gd name="adj1" fmla="val 50000"/>
              <a:gd name="adj2" fmla="val 316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988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288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88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888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6320" y="685800"/>
            <a:ext cx="8915400" cy="564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ritannic Bold"/>
              </a:rPr>
              <a:t>Three things in life that can destroy a per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Britannic Bold"/>
              </a:rPr>
              <a:t>Pri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Britannic Bold"/>
              </a:rPr>
              <a:t>Gre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Britannic Bold"/>
              </a:rPr>
              <a:t>Ang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19960" y="6324480"/>
            <a:ext cx="519120" cy="409680"/>
          </a:xfrm>
          <a:prstGeom prst="rightArrow">
            <a:avLst>
              <a:gd name="adj1" fmla="val 50000"/>
              <a:gd name="adj2" fmla="val 316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4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304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604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904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6320" y="685800"/>
            <a:ext cx="8915400" cy="570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ritannic Bold"/>
              </a:rPr>
              <a:t>Three things in life that are truly consta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Britannic Bold"/>
              </a:rPr>
              <a:t>Fath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Britannic Bold"/>
              </a:rPr>
              <a:t>S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Britannic Bold"/>
              </a:rPr>
              <a:t>Holy Gho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19960" y="6324480"/>
            <a:ext cx="519120" cy="409680"/>
          </a:xfrm>
          <a:prstGeom prst="rightArrow">
            <a:avLst>
              <a:gd name="adj1" fmla="val 50000"/>
              <a:gd name="adj2" fmla="val 316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996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296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96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896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6320" y="533520"/>
            <a:ext cx="8915400" cy="576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ritannic Bold"/>
              </a:rPr>
              <a:t>I asked the Lord to bless you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ritannic Bold"/>
              </a:rPr>
              <a:t>As I prayed for you today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ritannic Bold"/>
              </a:rPr>
              <a:t>To guide you and protect you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ritannic Bold"/>
              </a:rPr>
              <a:t>As you go along your w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ritannic Bold"/>
              </a:rPr>
              <a:t>His love is always with you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ritannic Bold"/>
              </a:rPr>
              <a:t>All of His promises are tr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ritannic Bold"/>
              </a:rPr>
              <a:t>Believe, and He will see you through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19960" y="6324480"/>
            <a:ext cx="519120" cy="409680"/>
          </a:xfrm>
          <a:prstGeom prst="rightArrow">
            <a:avLst>
              <a:gd name="adj1" fmla="val 50000"/>
              <a:gd name="adj2" fmla="val 316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99999982118607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841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00799999982118607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9942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00799999982118607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3283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00799999982118607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6303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00799999982118607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9565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00799999982118607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2906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00799999982118607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6807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23:40:25Z</dcterms:created>
  <dc:creator>Ellis Fletcher</dc:creator>
  <dc:description/>
  <dc:language>en-US</dc:language>
  <cp:lastModifiedBy>Ellis Fletcher</cp:lastModifiedBy>
  <dcterms:modified xsi:type="dcterms:W3CDTF">2007-05-16T22:20:17Z</dcterms:modified>
  <cp:revision>1</cp:revision>
  <dc:subject/>
  <dc:title>Three Things</dc:title>
</cp:coreProperties>
</file>