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%20am%20alive_03,28.00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5749-1B13-4326-888D-4C6B9B92876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JottFLF-BoldItalic.97"/>
              </a:rPr>
              <a:t>sa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Jeni      Ж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5D6-0BC6-4D7C-9861-80AD17EB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593-BF5E-4BF9-866F-E4945B5F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178-0BFE-40D3-BE0B-3CECCB62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30F-E07D-463E-A77D-B91319A8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0CC-7EC2-4844-9E9C-FD7D4E41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B7B-12FE-4891-928A-F3F156DA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E98-AC05-4FFE-8478-EAD7B58F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A39-4C0C-4A07-9D26-7122738F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D7D-A46B-4BC1-BA4D-24816640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DF9-8D31-4433-B2DA-77FB4AD9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88F-0C07-486B-8683-A7449D4A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B88-1013-4079-ACDC-C984CEA1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8684-2417-4FFA-A85C-F0E0AB9699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I%20am%20alive_03,28.00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296280" cy="7010280"/>
            <a:chOff x="0" y="0"/>
            <a:chExt cx="9296280" cy="701028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3429000"/>
              <a:ext cx="472428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4572000" y="0"/>
              <a:ext cx="472428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457200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0" y="2819520"/>
            <a:ext cx="9144000" cy="3146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pperplate Gothic Light"/>
              </a:rPr>
              <a:t>Желая ти</a:t>
            </a:r>
            <a:r>
              <a:rPr b="0" lang="bg-BG" sz="36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pperplate Gothic Light"/>
              </a:rPr>
              <a:t>силата на всички елементи</a:t>
            </a:r>
            <a:r>
              <a:rPr b="1" lang="de-DE" sz="3600" spc="-1" strike="noStrike">
                <a:solidFill>
                  <a:srgbClr val="ffffff"/>
                </a:solidFill>
                <a:latin typeface="Copperplate Gothic Ligh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  <p:sndAc>
      <p:stSnd>
        <p:snd r:embed="rId5" name="I%20am%20alive_03,28.0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03280" y="5821200"/>
            <a:ext cx="6096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ки вижда как изглеждаш, но малко чувстват какъв с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6858000"/>
            <a:ext cx="167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76920" y="4876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.</a:t>
            </a:r>
            <a:r>
              <a:rPr b="0" lang="de-DE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1040" y="5911920"/>
            <a:ext cx="883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ccffff"/>
                </a:solidFill>
                <a:latin typeface="Palatino Linotype"/>
                <a:ea typeface="Times New Roman"/>
              </a:rPr>
              <a:t>Който</a:t>
            </a:r>
            <a:r>
              <a:rPr b="1" lang="de-AT" sz="2800" spc="-1" strike="noStrike">
                <a:solidFill>
                  <a:srgbClr val="ccffff"/>
                </a:solidFill>
                <a:latin typeface="Palatino Linotype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ccffff"/>
                </a:solidFill>
                <a:latin typeface="Palatino Linotype"/>
                <a:ea typeface="Times New Roman"/>
              </a:rPr>
              <a:t>иска нещо, което не е имал никога, трябва да направи неща, които никога не е прави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31417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  <a:ea typeface="Arial"/>
              </a:rPr>
              <a:t>Може би Господ иска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  <a:ea typeface="Arial"/>
              </a:rPr>
              <a:t>в твоя живот да опознаеш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  <a:ea typeface="Arial"/>
              </a:rPr>
              <a:t>много фалшиви хора,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  <a:ea typeface="Arial"/>
              </a:rPr>
              <a:t>така, че когато срещнеш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  <a:ea typeface="Arial"/>
              </a:rPr>
              <a:t>истинският,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  <a:ea typeface="Arial"/>
              </a:rPr>
              <a:t>да можеш да го оцениш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  <a:ea typeface="Arial"/>
              </a:rPr>
              <a:t>и да си благодарен за то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5589720"/>
            <a:ext cx="44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Palatino Linotype"/>
              </a:rPr>
              <a:t>Дай на едно нещо име</a:t>
            </a:r>
            <a:r>
              <a:rPr b="1" lang="de-AT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Palatino Linotype"/>
              </a:rPr>
              <a:t>и то ще стане реалнос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00360" y="3284640"/>
            <a:ext cx="614052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Любовта не се състои в това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двама души да се гледат един друг,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а да гледат в една и съща посо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(Антоан дьо Сент-Екзюпери</a:t>
            </a:r>
            <a:r>
              <a:rPr b="0" lang="bg-BG" sz="24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84360" y="620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Живота е</a:t>
            </a:r>
            <a:r>
              <a:rPr b="1" lang="de-AT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рисуване, без гума за трие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838080"/>
            <a:ext cx="7619760" cy="28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скаш ли вина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ъздух за дишан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гън за топлен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да за пие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  Земя, на която да живееш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63000" y="477684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ва ти желая от цялото си сър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51664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Давай на </a:t>
            </a:r>
            <a:r>
              <a:rPr b="1" lang="bg-BG" sz="2400" spc="-1" strike="noStrike">
                <a:solidFill>
                  <a:srgbClr val="ffffff"/>
                </a:solidFill>
                <a:latin typeface="Palatino Linotype"/>
              </a:rPr>
              <a:t>всеки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 твой ден</a:t>
            </a:r>
            <a:r>
              <a:rPr b="1" lang="de-C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шанса да бъ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най-добрият</a:t>
            </a:r>
            <a:r>
              <a:rPr b="1" lang="de-C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в живота 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Palatino Linotype"/>
              </a:rPr>
              <a:t>Истински приятел е този, който поема ръката ти, но и сърцето ти успокоя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08360" y="4572000"/>
            <a:ext cx="54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Palatino Linotype"/>
              </a:rPr>
              <a:t>Рядко мислим за това което имаме, но винаги за това, което ни липс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828720" y="0"/>
            <a:ext cx="9972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16000" y="0"/>
            <a:ext cx="601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Не плачи, защото е минало, смей се защото въобще се е случи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3280" y="4572000"/>
            <a:ext cx="427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Колкото повече</a:t>
            </a:r>
            <a:r>
              <a:rPr b="1" lang="de-AT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планираш нещата</a:t>
            </a:r>
            <a:r>
              <a:rPr b="1" lang="de-AT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, </a:t>
            </a:r>
            <a:r>
              <a:rPr b="1" lang="bg-BG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толкова по-често</a:t>
            </a:r>
            <a:r>
              <a:rPr b="1" lang="de-AT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те среща случайност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43280" y="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Palatino Linotype"/>
              </a:rPr>
              <a:t>Всичко, което се случва, се случва с  точно определена причи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52680" y="1752480"/>
            <a:ext cx="2514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Не се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bg-BG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напрягяй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bg-BG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толкова, защото най-хубавите неща се случват, когато най-малко ги очакваш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292560"/>
            <a:ext cx="822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57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Най-големите постижения, са не най-шумните</a:t>
            </a:r>
            <a:r>
              <a:rPr b="1" lang="de-AT" sz="2800" spc="-1" strike="noStrike">
                <a:solidFill>
                  <a:srgbClr val="000099"/>
                </a:solidFill>
                <a:latin typeface="Palatino Linotype"/>
                <a:ea typeface="Times New Roman"/>
              </a:rPr>
              <a:t>, 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а най-тихите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911920"/>
            <a:ext cx="72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ffcc66"/>
                </a:solidFill>
                <a:latin typeface="Arial"/>
              </a:rPr>
              <a:t>Най-трудно човек учи в живота, кои мостове да ползва и кои да прекъс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22:45:57Z</dcterms:created>
  <dc:creator/>
  <dc:description>Arrangement &amp; Ton: Dottore El Cidre</dc:description>
  <dc:language>en-US</dc:language>
  <cp:lastModifiedBy> Ivailo Ivanov</cp:lastModifiedBy>
  <dcterms:modified xsi:type="dcterms:W3CDTF">2006-08-04T14:39:07Z</dcterms:modified>
  <cp:revision>78</cp:revision>
  <dc:subject>I am alive_03.28.00</dc:subject>
  <dc:title>Luft, Feuer, Erde &amp; Wass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rstellt von">
    <vt:lpwstr>Dottore El Cidre</vt:lpwstr>
  </property>
</Properties>
</file>