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156%20sec%20Ern%20Cortazar%20-%20Even%20through%20the%20distance.wav" ContentType="audio/x-wav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156%20sec%20Ern%20Cortazar%20-%20Even%20through%20the%20distanc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-357120" y="0"/>
            <a:ext cx="10145520" cy="69357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8642520" y="5757840"/>
            <a:ext cx="718920" cy="5396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1708200" y="695160"/>
            <a:ext cx="57578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25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FE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477840" y="5999040"/>
            <a:ext cx="296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66ff33"/>
                </a:solidFill>
                <a:latin typeface="Arial"/>
              </a:rPr>
              <a:t>Придвижете 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66ff33"/>
                </a:solidFill>
                <a:latin typeface="Arial"/>
              </a:rPr>
              <a:t>с “мишка” или с </a:t>
            </a: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ge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73280" y="1001880"/>
            <a:ext cx="7619760" cy="5209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11080" y="166680"/>
            <a:ext cx="7855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00"/>
                </a:solidFill>
                <a:latin typeface="Comic Sans MS"/>
              </a:rPr>
              <a:t>Както направих аз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1880" y="154080"/>
            <a:ext cx="42228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2520" y="185760"/>
            <a:ext cx="770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cc00"/>
                </a:solidFill>
                <a:latin typeface="Comic Sans MS"/>
              </a:rPr>
              <a:t>На онез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cc00"/>
                </a:solidFill>
                <a:latin typeface="Comic Sans MS"/>
              </a:rPr>
              <a:t>които въздействат на живота ви...</a:t>
            </a:r>
            <a:r>
              <a:rPr b="1" lang="cs-CZ" sz="3200" spc="-1" strike="noStrike">
                <a:solidFill>
                  <a:srgbClr val="99cc00"/>
                </a:solidFill>
                <a:latin typeface="Comic Sans MS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11280" y="776160"/>
            <a:ext cx="6259680" cy="4694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34880" y="0"/>
            <a:ext cx="8244000" cy="6858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... </a:t>
            </a:r>
            <a:r>
              <a:rPr b="1" lang="bg-BG" sz="3200" spc="-1" strike="noStrike">
                <a:solidFill>
                  <a:srgbClr val="009900"/>
                </a:solidFill>
                <a:latin typeface="Comic Sans MS"/>
              </a:rPr>
              <a:t>На онез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00"/>
                </a:solidFill>
                <a:latin typeface="Comic Sans MS"/>
              </a:rPr>
              <a:t>който ви карат да се усмихва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00"/>
                </a:solidFill>
                <a:latin typeface="Comic Sans MS"/>
              </a:rPr>
              <a:t>когато наистина имате нужда от някого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856640" y="5761080"/>
            <a:ext cx="1012680" cy="1096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79520" y="0"/>
            <a:ext cx="53355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0" y="262080"/>
            <a:ext cx="914400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9966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9966"/>
                </a:solidFill>
                <a:latin typeface="Comic Sans MS"/>
              </a:rPr>
              <a:t>онез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9966"/>
                </a:solidFill>
                <a:latin typeface="Comic Sans MS"/>
              </a:rPr>
              <a:t>кои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9966"/>
                </a:solidFill>
                <a:latin typeface="Comic Sans MS"/>
              </a:rPr>
              <a:t>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9966"/>
                </a:solidFill>
                <a:latin typeface="Comic Sans MS"/>
              </a:rPr>
              <a:t>подкре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00ff"/>
                </a:solidFill>
                <a:latin typeface="Comic Sans MS"/>
              </a:rPr>
              <a:t>                                           </a:t>
            </a:r>
            <a:r>
              <a:rPr b="1" lang="bg-BG" sz="3200" spc="-1" strike="noStrike">
                <a:solidFill>
                  <a:srgbClr val="cccc00"/>
                </a:solidFill>
                <a:latin typeface="Comic Sans MS"/>
              </a:rPr>
              <a:t>ког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cc00"/>
                </a:solidFill>
                <a:latin typeface="Comic Sans MS"/>
              </a:rPr>
              <a:t>                                           </a:t>
            </a:r>
            <a:r>
              <a:rPr b="1" lang="bg-BG" sz="3200" spc="-1" strike="noStrike">
                <a:solidFill>
                  <a:srgbClr val="cccc00"/>
                </a:solidFill>
                <a:latin typeface="Comic Sans MS"/>
              </a:rPr>
              <a:t>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cc00"/>
                </a:solidFill>
                <a:latin typeface="Comic Sans MS"/>
              </a:rPr>
              <a:t>                                           </a:t>
            </a:r>
            <a:r>
              <a:rPr b="1" lang="bg-BG" sz="3200" spc="-1" strike="noStrike">
                <a:solidFill>
                  <a:srgbClr val="cccc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cc00"/>
                </a:solidFill>
                <a:latin typeface="Comic Sans MS"/>
              </a:rPr>
              <a:t>                                           </a:t>
            </a:r>
            <a:r>
              <a:rPr b="1" lang="bg-BG" sz="3200" spc="-1" strike="noStrike">
                <a:solidFill>
                  <a:srgbClr val="cccc00"/>
                </a:solidFill>
                <a:latin typeface="Comic Sans MS"/>
              </a:rPr>
              <a:t>б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19240" y="3400560"/>
            <a:ext cx="701640" cy="76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7200" y="0"/>
            <a:ext cx="42228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47304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Comic Sans MS"/>
              </a:rPr>
              <a:t>на Вашите приятел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5440" y="681120"/>
            <a:ext cx="7146720" cy="519732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2120" y="403200"/>
            <a:ext cx="8921880" cy="616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00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00"/>
                </a:solidFill>
                <a:latin typeface="Comic Sans MS"/>
              </a:rPr>
              <a:t>онз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00"/>
                </a:solidFill>
                <a:latin typeface="Comic Sans MS"/>
              </a:rPr>
              <a:t>кой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00"/>
                </a:solidFill>
                <a:latin typeface="Comic Sans MS"/>
              </a:rPr>
              <a:t>т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00"/>
                </a:solidFill>
                <a:latin typeface="Comic Sans MS"/>
              </a:rPr>
              <a:t>щ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00"/>
                </a:solidFill>
                <a:latin typeface="Comic Sans MS"/>
              </a:rPr>
              <a:t>                   </a:t>
            </a:r>
            <a:r>
              <a:rPr b="1" lang="bg-BG" sz="3200" spc="-1" strike="noStrike">
                <a:solidFill>
                  <a:srgbClr val="cc9900"/>
                </a:solidFill>
                <a:latin typeface="Comic Sans MS"/>
              </a:rPr>
              <a:t>мина покрай Вас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55760" y="0"/>
            <a:ext cx="4632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40" y="977760"/>
            <a:ext cx="213372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ff"/>
                </a:solidFill>
                <a:latin typeface="Comic Sans MS"/>
              </a:rPr>
              <a:t>На онз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ff"/>
                </a:solidFill>
                <a:latin typeface="Comic Sans MS"/>
              </a:rPr>
              <a:t>кой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ff"/>
                </a:solidFill>
                <a:latin typeface="Comic Sans MS"/>
              </a:rPr>
              <a:t>Ви тър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ff"/>
                </a:solidFill>
                <a:latin typeface="Comic Sans MS"/>
              </a:rPr>
              <a:t>за да 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9ff"/>
                </a:solidFill>
                <a:latin typeface="Comic Sans MS"/>
              </a:rPr>
              <a:t>подкр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5640" y="3438360"/>
            <a:ext cx="2268360" cy="3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3300"/>
                </a:solidFill>
                <a:latin typeface="Comic Sans MS"/>
              </a:rPr>
              <a:t>На онз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3300"/>
                </a:solidFill>
                <a:latin typeface="Comic Sans MS"/>
              </a:rPr>
              <a:t>кой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3300"/>
                </a:solidFill>
                <a:latin typeface="Comic Sans MS"/>
              </a:rPr>
              <a:t>Ви ч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3300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3300"/>
                </a:solidFill>
                <a:latin typeface="Comic Sans MS"/>
              </a:rPr>
              <a:t>нег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3300"/>
                </a:solidFill>
                <a:latin typeface="Comic Sans MS"/>
              </a:rPr>
              <a:t>бря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61840" y="496800"/>
            <a:ext cx="42228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569360" y="2739960"/>
            <a:ext cx="60624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320" y="133200"/>
            <a:ext cx="8974080" cy="655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 Sans MS"/>
              </a:rPr>
              <a:t>Никога не пропус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 Sans MS"/>
              </a:rPr>
              <a:t>възможността да внес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Comic Sans MS"/>
              </a:rPr>
              <a:t>слънчева светлина в деня на тоз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Comic Sans MS"/>
              </a:rPr>
              <a:t>който има ну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Comic Sans MS"/>
              </a:rPr>
              <a:t>от няколко окуражаващи дум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4876920"/>
            <a:ext cx="7743960" cy="18079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Comic Sans MS"/>
              </a:rPr>
              <a:t>Животът не е равен на време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Comic Sans MS"/>
              </a:rPr>
              <a:t>през което диша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Comic Sans MS"/>
              </a:rPr>
              <a:t>а на тези момен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Comic Sans MS"/>
              </a:rPr>
              <a:t>в които Ви спира дъ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8080" y="763560"/>
            <a:ext cx="8724960" cy="59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55600" y="168120"/>
            <a:ext cx="7507440" cy="64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9900"/>
                </a:solidFill>
                <a:latin typeface="Comic Sans MS"/>
              </a:rPr>
              <a:t>Животът е прекрасен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0600" y="181080"/>
            <a:ext cx="42228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4040" y="492120"/>
            <a:ext cx="7748640" cy="1811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omic Sans MS"/>
              </a:rPr>
              <a:t>В живота има момен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omic Sans MS"/>
              </a:rPr>
              <a:t>когато някой толкова ти липсва,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Comic Sans MS"/>
              </a:rPr>
              <a:t>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omic Sans MS"/>
              </a:rPr>
              <a:t>желанието да се опреш на рамото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omic Sans MS"/>
              </a:rPr>
              <a:t>запълва всички твои меч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120" y="5894280"/>
            <a:ext cx="770724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2266"/>
                </a:solidFill>
                <a:latin typeface="Comic Sans MS"/>
              </a:rPr>
              <a:t>Особено с приятел като те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28800" y="1440"/>
            <a:ext cx="7315200" cy="685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0"/>
            <a:ext cx="432000" cy="683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360" y="571680"/>
            <a:ext cx="215928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Не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все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момен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о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живо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изпълне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663300"/>
                </a:solidFill>
                <a:latin typeface="Comic Sans MS"/>
              </a:rPr>
              <a:t>удоволстви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49520" y="6172200"/>
            <a:ext cx="63324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44480" y="154080"/>
            <a:ext cx="42228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080" y="255600"/>
            <a:ext cx="8983440" cy="24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ffff"/>
                </a:solidFill>
                <a:latin typeface="Comic Sans MS"/>
              </a:rPr>
              <a:t>Когато една врата на щастието се затв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ffff"/>
                </a:solidFill>
                <a:latin typeface="Comic Sans MS"/>
              </a:rPr>
              <a:t>а друга се отв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ffff"/>
                </a:solidFill>
                <a:latin typeface="Comic Sans MS"/>
              </a:rPr>
              <a:t>ние продължаваме да гледа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66ffff"/>
                </a:solidFill>
                <a:latin typeface="Comic Sans MS"/>
              </a:rPr>
              <a:t>в затворената в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200" y="5767560"/>
            <a:ext cx="8839440" cy="10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        </a:t>
            </a:r>
            <a:r>
              <a:rPr b="1" lang="bg-BG" sz="3200" spc="-1" strike="noStrike">
                <a:solidFill>
                  <a:srgbClr val="66ffff"/>
                </a:solidFill>
                <a:latin typeface="Comic Sans MS"/>
              </a:rPr>
              <a:t>и не отчитаме  </a:t>
            </a: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   </a:t>
            </a:r>
            <a:r>
              <a:rPr b="1" lang="bg-BG" sz="3200" spc="-1" strike="noStrike">
                <a:solidFill>
                  <a:srgbClr val="66ffff"/>
                </a:solidFill>
                <a:latin typeface="Comic Sans MS"/>
              </a:rPr>
              <a:t>важността на т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       </a:t>
            </a:r>
            <a:r>
              <a:rPr b="1" lang="bg-BG" sz="3200" spc="-1" strike="noStrike">
                <a:solidFill>
                  <a:srgbClr val="66ffff"/>
                </a:solidFill>
                <a:latin typeface="Comic Sans MS"/>
              </a:rPr>
              <a:t>което току-що ни се откр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960" y="-23760"/>
            <a:ext cx="8663040" cy="688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9760" y="-44280"/>
            <a:ext cx="6043320" cy="958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3300"/>
                </a:solidFill>
                <a:latin typeface="Comic Sans MS"/>
              </a:rPr>
              <a:t>Старайте се да общув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3300"/>
                </a:solidFill>
                <a:latin typeface="Comic Sans MS"/>
              </a:rPr>
              <a:t>с весели и усмихнати х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320" y="846000"/>
            <a:ext cx="42228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320" y="3843360"/>
            <a:ext cx="42228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0680" y="5511960"/>
            <a:ext cx="8431200" cy="13460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00"/>
                </a:solidFill>
                <a:latin typeface="Comic Sans MS"/>
              </a:rPr>
              <a:t>защото смехът може да превър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00"/>
                </a:solidFill>
                <a:latin typeface="Comic Sans MS"/>
              </a:rPr>
              <a:t>тъжния ден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bg-BG" sz="3200" spc="-1" strike="noStrike">
                <a:solidFill>
                  <a:srgbClr val="ff9900"/>
                </a:solidFill>
                <a:latin typeface="Comic Sans MS"/>
              </a:rPr>
              <a:t>в радостен и щ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120" y="0"/>
            <a:ext cx="8185320" cy="5335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 Sans MS"/>
              </a:rPr>
              <a:t>Мечт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 Sans MS"/>
              </a:rPr>
              <a:t>за каквото ви се иска да мечта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33cc"/>
                </a:solidFill>
                <a:latin typeface="Comic Sans MS"/>
              </a:rPr>
              <a:t>Отидете там, където жела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4442"/>
                </a:solidFill>
                <a:latin typeface="Comic Sans MS"/>
              </a:rPr>
              <a:t>Стремете се към каквото ви се 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8600" y="5460840"/>
            <a:ext cx="8153280" cy="1252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3399"/>
                </a:solidFill>
                <a:latin typeface="Comic Sans MS"/>
              </a:rPr>
              <a:t>Защото животът е такъ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3399"/>
                </a:solidFill>
                <a:latin typeface="Comic Sans MS"/>
              </a:rPr>
              <a:t>какъвто си го направ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16280" y="0"/>
            <a:ext cx="5335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7200" y="693720"/>
            <a:ext cx="345276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Не мисле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че щастлив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получав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най-добр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от най-добр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просто открив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най-добр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от т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което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вижд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по пътя си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28640" y="77760"/>
            <a:ext cx="42228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03440" y="3200400"/>
            <a:ext cx="42228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3760" y="9360"/>
            <a:ext cx="9167760" cy="6780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2800" y="0"/>
            <a:ext cx="8178840" cy="6858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Най-красивите не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158"/>
                </a:solidFill>
                <a:latin typeface="Comic Sans MS"/>
              </a:rPr>
              <a:t>винаги ще зависят от необходимост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158"/>
                </a:solidFill>
                <a:latin typeface="Comic Sans MS"/>
              </a:rPr>
              <a:t>да забравим минал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158"/>
                </a:solidFill>
                <a:latin typeface="Comic Sans MS"/>
              </a:rPr>
              <a:t>Не можеш да се измъкне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158"/>
                </a:solidFill>
                <a:latin typeface="Comic Sans MS"/>
              </a:rPr>
              <a:t>от миналото и да продълж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158"/>
                </a:solidFill>
                <a:latin typeface="Comic Sans MS"/>
              </a:rPr>
              <a:t>докато не преодолее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158"/>
                </a:solidFill>
                <a:latin typeface="Comic Sans MS"/>
              </a:rPr>
              <a:t>миналите грешки и всич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omic Sans MS"/>
              </a:rPr>
              <a:t>което ти причинява бо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3720" y="85680"/>
            <a:ext cx="42228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1080" y="504720"/>
            <a:ext cx="8781840" cy="5848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7960" y="619200"/>
            <a:ext cx="8428320" cy="15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00"/>
                </a:solidFill>
                <a:latin typeface="Comic Sans MS"/>
              </a:rPr>
              <a:t>Живейте живота пълноц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00"/>
                </a:solidFill>
                <a:latin typeface="Comic Sans MS"/>
              </a:rPr>
              <a:t>и въпреки трудно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bg-BG" sz="3200" spc="-1" strike="noStrike">
                <a:solidFill>
                  <a:srgbClr val="ff9900"/>
                </a:solidFill>
                <a:latin typeface="Comic Sans MS"/>
              </a:rPr>
              <a:t>винаги се усмихв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2240" y="0"/>
            <a:ext cx="42228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2760" y="189000"/>
            <a:ext cx="6861240" cy="644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7840" y="770040"/>
            <a:ext cx="2066760" cy="464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Comic Sans MS"/>
              </a:rPr>
              <a:t>Изпрат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Comic Sans MS"/>
              </a:rPr>
              <a:t>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Comic Sans MS"/>
              </a:rPr>
              <a:t>посл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Comic Sans MS"/>
              </a:rPr>
              <a:t>на онез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Comic Sans MS"/>
              </a:rPr>
              <a:t>кои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Comic Sans MS"/>
              </a:rPr>
              <a:t>разчи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Comic Sans MS"/>
              </a:rPr>
              <a:t>н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50760" y="279360"/>
            <a:ext cx="42228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90640" y="2598840"/>
            <a:ext cx="525240" cy="569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853920" y="5673600"/>
            <a:ext cx="605160" cy="6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0:19:06Z</dcterms:created>
  <dc:creator>Hamid</dc:creator>
  <dc:description/>
  <dc:language>en-US</dc:language>
  <cp:lastModifiedBy>JITosheva</cp:lastModifiedBy>
  <dcterms:modified xsi:type="dcterms:W3CDTF">2007-06-13T11:37:35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03131911</vt:r8>
  </property>
  <property fmtid="{D5CDD505-2E9C-101B-9397-08002B2CF9AE}" pid="3" name="_AuthorEmail">
    <vt:lpwstr>RMinakova@npp.bg</vt:lpwstr>
  </property>
  <property fmtid="{D5CDD505-2E9C-101B-9397-08002B2CF9AE}" pid="4" name="_AuthorEmailDisplayName">
    <vt:lpwstr>Минакова, Росица Т.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