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lberte-Valse%20de%20strauss2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695-882F-457A-AD4A-CC2DD18F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D52-E4A8-485F-8A97-FFEA44B7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6D4-A843-459B-8D97-6E7BF86A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2D4-071C-46DA-8508-E761B93B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95F-C45D-47B6-ACD4-DC6B40FD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879-1AD4-4ADC-8408-08028573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694-BEF9-4C83-B2E5-F4E2BACA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4414-7441-4152-B45A-1661B54C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EC2-E2BE-43B6-ADA0-6B969E1A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4BC-1826-4249-BDD5-07C95B56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DF2-64D1-46BA-B2C8-2121EFCE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A91-31D2-41CC-9EB9-DD748582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754617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37D7-05AD-4E76-938F-98553084E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berte-Valse%20de%20strauss2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754617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63640" y="0"/>
            <a:ext cx="7380360" cy="6840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Alberte-Valse%20de%20strauss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754617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204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754617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957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754617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754617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2755"/>
          <a:stretch/>
        </p:blipFill>
        <p:spPr>
          <a:xfrm>
            <a:off x="2050920" y="0"/>
            <a:ext cx="4902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754617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 L’AMERIQU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754617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754617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39784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754617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665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754617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10108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16:06:15Z</dcterms:created>
  <dc:creator>Cris</dc:creator>
  <dc:description/>
  <dc:language>en-US</dc:language>
  <cp:lastModifiedBy>x</cp:lastModifiedBy>
  <dcterms:modified xsi:type="dcterms:W3CDTF">2006-09-20T01:25:06Z</dcterms:modified>
  <cp:revision>0</cp:revision>
  <dc:subject/>
  <dc:title>Europa2010</dc:title>
</cp:coreProperties>
</file>